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3808-161D-432A-8F0E-7E40D34A7A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CD6F-9784-44D4-A513-3EA091D776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8B26-EAC2-40B6-BBC8-573EE3AB4F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differ across countries and also between employees and companies.   According to the relativism perspective there are significant differences from country to country that can affect behavior.  In contrast, normativism supports the idea that there are universal standards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suggest that managers should exhibit ordinary decency – principles of honesty and 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abroad must decide whether and how to implement their own ethical principles.  Companies may face considerable pressure to either comply with local norms or to avoid doing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anagers must choose between the lesser of two evils.  Keep in mind that social responsibility requires human judgment, but that such judgment is subjective and ambiguo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2A05-D805-4C73-BEEC-4833C85260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ok for companies to do anything they want as long as it isn’t illegal?  Some  people think so, but others argue that not everything that’s unethical is illegal, and so companies should not be given free rein to do what they wa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1F56-FAFE-49E4-9481-1E5A766008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 with ethical dilemmas requires managers to balance means and ends.  Some argue that the law is a good basis for ethical behavior because it embodies local cultural valu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7AA6-BD77-4AFE-9CDA-9AB5DB86D9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try to use  the law to govern their behavior will quickly find out that laws vary from country to count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F681-B140-48ED-97E8-339B0112AF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arguments against using the law as a starting point for ethical behavior, it is the starting point for many companies.  Moreover, as countries tackle similar ethical issues, laws will become more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EDF5-83FB-45FC-9D31-BCF5CD6E35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uption – which is defined by Transparency International to be the misuse of entrusted power for private gain -  involves multiple issues, one of which is the issue of bribery.  Bribery is the main form of corrupt behavior by multinational companies.  In fact, while it is impossible to assess the true value of bribery, it’s hug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C297-CE01-4DA2-8868-CEFFCF1637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how likely companies are to offer bribes in certain countries.  Research shows that people from Belgium and Canada are least likely to pay bribes, while people from Russia, China, and Mexico are most likely to pay bri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2055-ED60-47B5-BA91-38FD47701B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wrong with bribery?  Well, when a country has a high level of corruption, national growth rates and per capita</a:t>
            </a:r>
            <a:r>
              <a:rPr b="0" lang="en-US" sz="800" spc="-1" strike="noStrike">
                <a:solidFill>
                  <a:srgbClr val="000000"/>
                </a:solidFill>
                <a:latin typeface="Arial"/>
              </a:rPr>
              <a:t> </a:t>
            </a:r>
            <a:r>
              <a:rPr b="0" lang="en-US" sz="1200" spc="-1" strike="noStrike">
                <a:solidFill>
                  <a:srgbClr val="000000"/>
                </a:solidFill>
                <a:latin typeface="Arial"/>
              </a:rPr>
              <a:t>income tend to be lower.  In addition, corrupt governments are usually unstab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ultinational, corruption is not only expensive, but it can ruin the firm’s reput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efforts to limit corruption and the use of bribes have been made at the international level, the regional level, and even at the industry lev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international level, t</a:t>
            </a:r>
            <a:r>
              <a:rPr b="0" lang="en-US" sz="1200" spc="-1" strike="noStrike">
                <a:solidFill>
                  <a:srgbClr val="000000"/>
                </a:solidFill>
                <a:latin typeface="Palatino-Roman"/>
              </a:rPr>
              <a:t>he 1997 OECD Anti-Bribery Convention establishes legally binding standards to criminalize bribery of foreign public officials in international business transactions and provides recommendations to the signatory countries.  The ICC established a code of rules against corrupt practices in 1999 and has also been active in supporting other multilateral approaches to combating bribery.  The United Nations’ Convention against Corruption covers a broad range of issues related to corrup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United States passed the Foreign Corrupt Practices Act which makes bribery illegal.  It applies to domestic or foreign operations and to company employees as well as their agents overseas.  In addition, the Sarbanes-Oxley legislation combats corruption through more effective corporate governance, financial disclosure, and public accounting oversigh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various industries have recently stepped up their own efforts against bribery and corruption.  One effort is the </a:t>
            </a:r>
            <a:r>
              <a:rPr b="0" lang="en-US" sz="1200" spc="-1" strike="noStrike">
                <a:solidFill>
                  <a:srgbClr val="000000"/>
                </a:solidFill>
                <a:latin typeface="Avenir-Light"/>
              </a:rPr>
              <a:t>zero-tolerance pact against bribery which was established at the 2005 World Economic Foru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Keep in mind that while </a:t>
            </a:r>
            <a:r>
              <a:rPr b="0" lang="en-US" sz="1200" spc="-1" strike="noStrike">
                <a:solidFill>
                  <a:srgbClr val="000000"/>
                </a:solidFill>
                <a:latin typeface="Palatino-Roman"/>
              </a:rPr>
              <a:t>it might be easier to fall back on the standard of cultural </a:t>
            </a:r>
            <a:r>
              <a:rPr b="0" i="1" lang="en-US" sz="1200" spc="-1" strike="noStrike">
                <a:solidFill>
                  <a:srgbClr val="000000"/>
                </a:solidFill>
                <a:latin typeface="Palatino-Italic"/>
              </a:rPr>
              <a:t>relativism </a:t>
            </a:r>
            <a:r>
              <a:rPr b="0" lang="en-US" sz="1200" spc="-1" strike="noStrike">
                <a:solidFill>
                  <a:srgbClr val="000000"/>
                </a:solidFill>
                <a:latin typeface="Palatino-Roman"/>
              </a:rPr>
              <a:t>and  simply pay bribes where they’re accepted and/or expected, these efforts have had some suc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259A-9EC9-457F-867B-5B347A9E83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the importance of social responsibility when operating internationally, especially in the areas of sustainabi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56AF-323A-4E21-BBFC-3D7A302303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damage the environment both in the manufacturing process and also as a result of the products they 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companies that extract natural resources is especially complicated.  What happens when those resources are nonrenewable?  Well, some argue that there is no such thing as a nonrenewable resource because as supplies drop, prices will rise and substitutes will emerge to protect the resource that is less availab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EE96-7E8A-4277-BBAF-FB98C789E3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Globalization and Socie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63DC-6467-408D-8CFE-8F266C23D8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behind sustainability is to do what’s best for both people and the environment.  Today, it’s commonly recognized that sustainability can go hand in hand with good business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t has become an industry in its own right.  New companies have emerged that combine the idea of environmental responsibility with profitability to meet the needs of environmentally conscious consumer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69AE-D263-4B98-BD05-790D5BB768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global warming?  It results from the release of greenhouse gases that trap heat in the atmosphere rather than allowing it to escape.   This of course could have catastrophic effects on the environment.  While the Kyoto Protocol was designed to correct the problem, some countries have yet to ratify the agreement.  The United States which generated 19 percent of the world’s greenhouses gases in 2008, for example, is worried that doing so would slow economic growth so it’s hoping that low-carbon technologies will be developed and resolve the greenhouse gas problem.  In fact, President Obama is working on a new framework to replace the Kyoto Protocol.  He also supports investment in alternative and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some national and regional efforts to address the problem.  The European Union, for example, has set targets below the Kyoto Protocol.   In addition, some companies that believe requirements on greenhouse gases are inevitable, are changing their business models regardless of the standards they currently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legal approach to the issue is to simply comply with local standards, while the ethical approach would suggest that companies need to go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FFAD-1040-40BC-AE94-8266214D21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discuss some key issues in the social activities and consequences of globalized busi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5C42-6796-493F-BC6C-07A411758D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thical issues related to bribery and global warming, firms also face ethical issues in other parts of their business.  Some are industry-specific like the issues that arise in the pharmaceutical industry, others are not industry-specific like labor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harmaceutical industry, many firms use tiered pricing whereby they charge a market price for products sold in industrialized countries and a discounted price for products sold in developing countries.  Keep in mind though, that drug companies rely on revenue from existing products to fund their R&amp;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S allows poor countries to produce generic products for local consumption or import generic products if they themselves don’t have the capacity to produce generics.  Pharmaceutical companies worry that the generic products could eventually compromise their sales of real products in develop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issue for drug companies involves the high cost of developing drugs.  The cost of developing drugs is very high in the developed world, but significantly lower in developing countries like India.  India has emerged as a major manufacturer of generic drugs and is now moving into developing new drug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289A-EFDA-4F37-B2D3-46DB705CA7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multinationals rely on global supply chains.  This reality adds another level of concern for them – namely the working conditions of foreign labor forces.  Companies doing business in other countries either through FDI or purchasing from independent suppliers deal with a host of issues including ensuring that fair wages are paid and working conditions are safe, meeting the ethical and legal challenges of child labor, and making sure that freedom of association is permitt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567D-5795-40CD-AC6A-E021A03BBB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multiple pressures external stakeholders place on companies to force them to adopt responsible employment practices in their foreign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B2B7-3482-4D96-9126-558928E4EB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ea that has received special attention is child labor.  The International Labor Organization or ILO estimates that some 250 million children work worldwide.  Of these, about 5 percent are involved in export indu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when thinking about child labor that some argue that in some cases, children work because their parents don’t earn enough to support their families.  Without the additional wages brought home by the child, the family would be worse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like IKEA have addressed this dilemma by helping families increase their earning power and establishing bridge schools for childre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3C49-4F5C-4E4C-A3C2-D027F72D8F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examine corporate responses to globalization in the form of codes of conduct, among other thing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6830-0085-4231-B859-3A8B4F9ED1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companies behave?  The United Nations has developed a Global Compact that recommends broad principles for companies to follow in the areas of human rights, labor, the environment, and anti-corrup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7EC7-C67C-4FC4-98BF-5A753CB506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know it’s important for companies to act responsibly because unethical and irresponsible behavior could result in legal sanctions, consumer boycotts, lower employee moral, or lost s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courage ethical and responsible behavior, firms can establish a code of condu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854D-0FDB-4817-9CCD-FF2B48D166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the broad foundation of ethical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cultural and legal foundations of ethical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importance of social responsibility when operating internationally, especially in the areas of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some key issues in the social activities and consequences of globalized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corporate responses to globalization in the form of codes of conduct, among other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0CB2-D70A-4D89-8896-03B95CD73B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n the future?  Well, it’s expected that there will be greater convergence in terms of what constitutes ethical behavior.  In addition, as individuals gain more experience in international business they will develop new skills to help them deal with ethic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ther factors that will play into corporate ethics in the future is the role of social media in bring issues into the mainstream and the role of future leaders, who as students today have a greater awareness of social responsibility and ethics than their predecessor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F028-972C-46D9-9CFA-D184976DE5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9816-5D18-4BEB-8768-291F9428F1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consider international business from the perspective of ethics and social responsibility.  Companies must consider the various and often conflicting needs of each of its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holders want additional sales and increased pro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want safer work places and higher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ant higher-quality products at lower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wants more jobs, increased corporate taxes, more corporate support for social services, and more trustworthy behavior by company executiv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7A94-EFFF-4122-AE96-F8218C31BC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examine the broad foundation of ethical behavi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7E72-7140-4789-8257-A8C850BA52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to make decisions about the right way to act in a given situation.  In some cases there is universal agreement as to what constitutes right or ethical behavior, but in other situations, it’s much less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look at moral development is to examine what happens at three levels.  At the preconventional level children learn what’s right and wrong, but may not understand why their behavior is right or wrong.  At the conventional level role-conformity is learned from peers and societal laws.  Finally, in the post conventional level people internalize moral behavio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E786-E5D3-4A02-8918-463515E597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facing ethical situations examine their moral values to decide what to do.  Three approaches that can be used are: the teleological approach, utilitarianism, and the deontological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what constitutes ethical behavior in one country does not necessarily constitute ethical behavior in another countr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073D-D9FC-4058-8C4E-D07631415F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companies care about ethical behavior?  Ethical behavior can be important for developing a competitive advantage and to avoid being perceived as ir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ny nongovernmental organizations, or NGOs, actively encourage companies to comply with certain standards of ethical behavio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A82A-9CE9-4046-899E-E32AF68606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demonstrate the cultural and legal foundations of ethical behavi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9F01B-16D5-4637-AFAD-012FC9CDA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84031-D94D-4F24-8681-EF54758D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364F2-1484-4098-BAD9-D4EE920FC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57E3D-E7B7-4A86-830C-EF2AC5D6A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DE356-33D3-4191-AEEF-5A928CE92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FFF93-4348-49E2-AA4E-0E7338B7C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86DAB-8A98-44D3-AA8E-C334BAD83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01D1E-1670-4FE4-80D9-B669FBCC0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42DA-0B67-46F5-9FAD-9C39ED7D2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1BA8-46E4-4A6A-AAA1-5E83D7FF5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9B4B8-2D57-4A3B-9408-75C789E6F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EE45-F81E-493F-8DF7-2FD513EC1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4E8B-1E05-4105-ACF5-53B300002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C9A2-96F1-424E-991D-2138F7755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60381-60BB-415B-A30C-BBEF09E91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A651D-75AF-4CBC-8F18-B27A75963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E2DC6-BA83-4BF3-9C8B-8739F2B91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05550-360E-4BD2-AAD6-29823665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D573C-35F6-4A52-B01D-4544B406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1B57-16D6-49B4-B913-8581DBBC4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95938-5ED1-403B-A05A-E2540BE2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2063-3831-48A9-ACA2-2ED7FB6B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3E7B-32F3-4BEB-9AC2-40955A87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7F72-0049-469F-9E4D-DCACBB927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C8623E61-27D7-41A3-9BC6-D09C4562C9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fld id="{2C647F23-87F4-4C44-AA72-3852E3D806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75CD8D11-88BF-4F27-B8C7-112BB8034C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23647A56-889F-47CC-B9E4-DEDAC1962B4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lativism versus Normativism </a:t>
            </a:r>
            <a:endParaRPr b="0" lang="en-US" sz="4400" spc="-1" strike="noStrike">
              <a:solidFill>
                <a:srgbClr val="6f6e4a"/>
              </a:solidFill>
              <a:latin typeface="Georgi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ativism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thical truths depend on the groups holding them</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rmativism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are universal standards of behavior that all cultures should follow</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1A861B9E-A9F4-40D2-9B8F-5B57BCABE4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egal Justification: Pro and Con</a:t>
            </a:r>
            <a:endParaRPr b="0" lang="en-US" sz="4400" spc="-1" strike="noStrike">
              <a:solidFill>
                <a:srgbClr val="6f6e4a"/>
              </a:solidFill>
              <a:latin typeface="Georgi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law is inadequate becaus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me things that are unethical are not illeg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ws are slow to develop in emerging areas of concer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ws may be based on imprecisely defined moral concep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often needs to undergo scrutiny by the cour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is not very efficien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36353E20-17DA-40B9-B31C-FF317249C72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egal Justification: Pro and Con</a:t>
            </a:r>
            <a:endParaRPr b="0" lang="en-US" sz="4400" spc="-1" strike="noStrike">
              <a:solidFill>
                <a:srgbClr val="6f6e4a"/>
              </a:solidFill>
              <a:latin typeface="Georgi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justification is appropriate becaus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embodies many of a country’s moral princip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provides a clearly defined set of rul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contains enforceable rules that apply to everyon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w reflects careful and wide-ranging discuss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F43F5F5C-9863-425C-A976-6EB3CE39F1E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xtraterritoriality</a:t>
            </a:r>
            <a:endParaRPr b="0" lang="en-US" sz="4800" spc="-1" strike="noStrike">
              <a:solidFill>
                <a:srgbClr val="6f6e4a"/>
              </a:solidFill>
              <a:latin typeface="Georgi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xtraterritoriality</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osing domestic legal and ethical practices on the foreign subsidiaries of companies headquartered in their jurisdic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482C8A8D-DA46-4853-887D-DCD3C35F41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Corporate Bribery</a:t>
            </a:r>
            <a:endParaRPr b="0" lang="en-US" sz="4800" spc="-1" strike="noStrike">
              <a:solidFill>
                <a:srgbClr val="6f6e4a"/>
              </a:solidFill>
              <a:latin typeface="Georgi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ardless of the reasons for not using the law as a starting point for ethical behavior, it remains a good starting poi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ies looking for solutions to common problems take similar legal ste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ider</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well-being of peopl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ctivities that affect the environment</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832089DE-67C4-45F1-B7E1-9A94802EEAB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ruption and Bribery</a:t>
            </a:r>
            <a:endParaRPr b="0" lang="en-US" sz="4800" spc="-1" strike="noStrike">
              <a:solidFill>
                <a:srgbClr val="6f6e4a"/>
              </a:solidFill>
              <a:latin typeface="Georgi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rruption</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isuse of entrusted power for private gai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rib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yments or promises to pay cash or anything of valu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ccur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obtain government contracts </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get public officials to do what they should be doing anyway</a:t>
            </a:r>
            <a:r>
              <a:rPr b="0" lang="en-US" sz="2000" spc="-1" strike="noStrike">
                <a:solidFill>
                  <a:srgbClr val="666699"/>
                </a:solidFill>
                <a:latin typeface="Verdana"/>
              </a:rPr>
              <a:t> </a:t>
            </a:r>
            <a:endParaRPr b="0" lang="en-US" sz="20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E7474275-A837-426E-8DB7-1681DB0AA4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ruption and Bribery</a:t>
            </a:r>
            <a:endParaRPr b="0" lang="en-US" sz="4800" spc="-1" strike="noStrike">
              <a:solidFill>
                <a:srgbClr val="6f6e4a"/>
              </a:solidFill>
              <a:latin typeface="Georgi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Where Bribes Are Business As Usual</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1" name="Picture 4" descr=""/>
          <p:cNvPicPr/>
          <p:nvPr/>
        </p:nvPicPr>
        <p:blipFill>
          <a:blip r:embed="rId1"/>
          <a:stretch/>
        </p:blipFill>
        <p:spPr>
          <a:xfrm>
            <a:off x="457200" y="2333520"/>
            <a:ext cx="8229600" cy="219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DA238314-C643-42A8-AF0F-B89753EC09C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ruption and Bribery</a:t>
            </a:r>
            <a:endParaRPr b="0" lang="en-US" sz="48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rnational accords to stop bribery</a:t>
            </a:r>
            <a:r>
              <a:rPr b="0"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ECD Anti-Bribery Conven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CC code of rules</a:t>
            </a:r>
            <a:endParaRPr b="0" lang="en-US" sz="2400" spc="-1" strike="noStrike">
              <a:solidFill>
                <a:srgbClr val="666699"/>
              </a:solidFill>
              <a:latin typeface="Verdana"/>
            </a:endParaRPr>
          </a:p>
          <a:p>
            <a:pPr lvl="1" marL="743040" indent="-285840">
              <a:lnSpc>
                <a:spcPct val="9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 Convention against Corruption</a:t>
            </a:r>
            <a:r>
              <a:rPr b="0" lang="en-US" sz="2000" spc="-1" strike="noStrike">
                <a:solidFill>
                  <a:srgbClr val="666699"/>
                </a:solidFill>
                <a:latin typeface="Verdana"/>
              </a:rPr>
              <a:t> </a:t>
            </a:r>
            <a:endParaRPr b="0" lang="en-US" sz="20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nal initiatives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 effor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 Foreign Corrupt Practices Act and Sarbanes-Oxley legislation</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r>
              <a:rPr b="0" lang="en-US" sz="2800" spc="-1" strike="noStrike">
                <a:solidFill>
                  <a:srgbClr val="666699"/>
                </a:solidFill>
                <a:latin typeface="Verdana"/>
              </a:rPr>
              <a:t>Industry initiatives</a:t>
            </a:r>
            <a:r>
              <a:rPr b="0" lang="en-US" sz="2400" spc="-1" strike="noStrike">
                <a:solidFill>
                  <a:srgbClr val="666699"/>
                </a:solidFill>
                <a:latin typeface="Verdana"/>
              </a:rPr>
              <a:t> </a:t>
            </a:r>
            <a:r>
              <a:rPr b="0" lang="en-US" sz="2800" spc="-1" strike="noStrike">
                <a:solidFill>
                  <a:srgbClr val="666699"/>
                </a:solidFill>
                <a:latin typeface="Verdana"/>
              </a:rPr>
              <a:t>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2005 World Economic Forum zero tolerance pact</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8E98F29F-F045-4473-A448-8C9E175D627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the Environment</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importance of social responsibility when operating internationally, especially in the areas of sustainabili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70EBFD6B-5192-4634-93BA-ED9C7CAB102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thics and the Environment</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compromise the environm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amination of air, soil, or water during manufactur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ing products that emit fossil-fuel contaminant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ffect of natural resource extrac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newable versus non-renewabl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9FF9A121-7A2D-47D5-9BF3-7D6BA5FC14C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5</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Globalization </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and Society</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33A1FDA8-CD0F-4D79-B35E-7D0C8BCC893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at is Sustainability?</a:t>
            </a:r>
            <a:endParaRPr b="0" lang="en-US" sz="4800" spc="-1" strike="noStrike">
              <a:solidFill>
                <a:srgbClr val="6f6e4a"/>
              </a:solidFill>
              <a:latin typeface="Georgi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ility </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ing the needs of the present without compromising the ability of future generations to meet their own need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s sustainability good business practic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y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39669714-1A8D-4839-9997-96A332B50EB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lobal Warming, Kyoto Protocol</a:t>
            </a:r>
            <a:endParaRPr b="0" lang="en-US" sz="4400" spc="-1" strike="noStrike">
              <a:solidFill>
                <a:srgbClr val="6f6e4a"/>
              </a:solidFill>
              <a:latin typeface="Georgi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Kyoto Protocol</a:t>
            </a:r>
            <a:r>
              <a:rPr b="0" lang="en-US" sz="2800" spc="-1" strike="noStrike">
                <a:solidFill>
                  <a:srgbClr val="666699"/>
                </a:solidFill>
                <a:latin typeface="Verdana"/>
              </a:rPr>
              <a:t> (1997)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igned to require countries to cut greenhouse gas emissions to 5.2% below 1990 levels between 2008 and 2012</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untries have adopted stricter requireme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thers have not ratified the agreement including</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U.S., China, India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45FDFE2F-2205-494F-B694-CCD741E29B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lemmas and </a:t>
            </a:r>
            <a:br>
              <a:rPr sz="4400"/>
            </a:br>
            <a:r>
              <a:rPr b="0" lang="en-US" sz="4400" spc="-1" strike="noStrike">
                <a:solidFill>
                  <a:srgbClr val="6f6e4a"/>
                </a:solidFill>
                <a:latin typeface="Georgia"/>
              </a:rPr>
              <a:t>Other Business Practices</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some key issues in the social activities and consequences of globalized business</a:t>
            </a: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02B26A4E-1704-4037-94A6-030FD565BCE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lemmas in the Pharmaceutical Industry</a:t>
            </a:r>
            <a:endParaRPr b="0" lang="en-US" sz="44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iered pricing and other price-related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verse engineering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TO Agreement on Trade-Related Aspects of Intellectual Property Rights (TRIP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neric drug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amp;D and the Bottom Lin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a</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AA10F136-6B29-4D06-A78C-56238DAF244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abor issue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ag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ild lab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ing hou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dom of associ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DB850664-13BB-4F77-8A12-2192E9DCF8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Sources of Worker-Related Pressures in the Global Supply Chain</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98" name="Picture 4" descr=""/>
          <p:cNvPicPr/>
          <p:nvPr/>
        </p:nvPicPr>
        <p:blipFill>
          <a:blip r:embed="rId1"/>
          <a:stretch/>
        </p:blipFill>
        <p:spPr>
          <a:xfrm>
            <a:off x="1704960" y="1981080"/>
            <a:ext cx="5735520" cy="426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5DB2A558-59A2-409D-AB08-2BD33661FB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thical Dimensions of </a:t>
            </a:r>
            <a:br>
              <a:rPr sz="4400"/>
            </a:br>
            <a:r>
              <a:rPr b="0" lang="en-US" sz="4400" spc="-1" strike="noStrike">
                <a:solidFill>
                  <a:srgbClr val="6f6e4a"/>
                </a:solidFill>
                <a:latin typeface="Georgia"/>
              </a:rPr>
              <a:t>Labor Conditions</a:t>
            </a:r>
            <a:endParaRPr b="0" lang="en-US" sz="44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hild labor</a:t>
            </a:r>
            <a:r>
              <a:rPr b="0" lang="en-US" sz="2800" spc="-1" strike="noStrike">
                <a:solidFill>
                  <a:srgbClr val="666699"/>
                </a:solidFill>
                <a:latin typeface="Verdana"/>
              </a:rPr>
              <a:t> – ILO estimates 250 million children aged 5–17 years work</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avoid operating in countries where child labor is comm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r establish responsible policies in those countries - IKEA</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 companies refuse to hire individuals who want to work long hou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cerned about exploit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D2B17036-4D12-4A5C-9ECB-E6AE8DDE162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porate Codes of Ethics</a:t>
            </a:r>
            <a:endParaRPr b="0" lang="en-US" sz="4800" spc="-1" strike="noStrike">
              <a:solidFill>
                <a:srgbClr val="6f6e4a"/>
              </a:solidFill>
              <a:latin typeface="Georgi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amine corporate responses to globalization in the form of codes of conduct, among other things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582401D0-34D8-4F93-9995-A1121A61A9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rporate Codes of Ethics</a:t>
            </a:r>
            <a:endParaRPr b="0" lang="en-US" sz="4800" spc="-1" strike="noStrike">
              <a:solidFill>
                <a:srgbClr val="6f6e4a"/>
              </a:solidFill>
              <a:latin typeface="Georgia"/>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How should companies behav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UN Global Compact establishes guidelines for appropriate behavior in human righ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b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nviron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ti-corruption</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7C1FE399-CBE1-4E8E-88C6-7DE969D041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Motivations for </a:t>
            </a:r>
            <a:br>
              <a:rPr sz="4400"/>
            </a:br>
            <a:r>
              <a:rPr b="0" lang="en-US" sz="4400" spc="-1" strike="noStrike">
                <a:solidFill>
                  <a:srgbClr val="6f6e4a"/>
                </a:solidFill>
                <a:latin typeface="Georgia"/>
              </a:rPr>
              <a:t>Corporate Responsibility</a:t>
            </a:r>
            <a:endParaRPr b="0" lang="en-US" sz="4400" spc="-1" strike="noStrike">
              <a:solidFill>
                <a:srgbClr val="6f6e4a"/>
              </a:solidFill>
              <a:latin typeface="Georgi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ethical and irresponsible behavior could</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sult in legal sanction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sult in consumer boycot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er employee moral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 sales because of bad publicit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code of conduct</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ts global policy that must be complied with</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unicates the code to employees, suppliers, and subcontractor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sures that policies are carried out</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orts results to external stakeholders</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AC81CB8B-6961-4DD7-9912-299DC2C24B3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amine the broad foundation of ethical behavior</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monstrate the cultural and legal foundations of ethical behavior</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importance of social responsibility when operating internationally, especially in the areas of sustainability</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some key issues in the social activities and consequences of globalized business</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amine corporate responses to globalization in the form of codes of conduct, among other thing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3E5625AC-05EE-4B25-8E0E-597B6BD39B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rporate Ethics in The Future</a:t>
            </a:r>
            <a:endParaRPr b="0" lang="en-US" sz="4400" spc="-1" strike="noStrike">
              <a:solidFill>
                <a:srgbClr val="6f6e4a"/>
              </a:solidFill>
              <a:latin typeface="Georgi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trend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will be greater convergence of proper ethical condu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viduals will develop skills to address ethical issu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mpact of social media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mpact of future business and government leader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D79DC06B-CFE3-43A8-8CFB-8F1D953534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22"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A3D522CA-E03C-49E2-992F-0313D611E04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must satisfy </a:t>
            </a:r>
            <a:r>
              <a:rPr b="1" lang="en-US" sz="2800" spc="-1" strike="noStrike">
                <a:solidFill>
                  <a:srgbClr val="666699"/>
                </a:solidFill>
                <a:latin typeface="Verdana"/>
              </a:rPr>
              <a:t>stakeholde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harehol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mploye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ety</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837992EF-60F9-4EB0-A3EB-3B170E2E78F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Foundations of Ethical Behavior</a:t>
            </a:r>
            <a:endParaRPr b="0" lang="en-US" sz="44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amine the broad foundation of ethical behavio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1345252A-8A4C-4E00-9DE8-51F844C288D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Foundations of Ethical Behavior</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e levels of moral development</a:t>
            </a:r>
            <a:endParaRPr b="0" lang="en-US" sz="2800" spc="-1" strike="noStrike">
              <a:solidFill>
                <a:srgbClr val="666699"/>
              </a:solidFill>
              <a:latin typeface="Verdana"/>
            </a:endParaRPr>
          </a:p>
          <a:p>
            <a:pPr lvl="1" marL="914400" indent="-457200">
              <a:spcBef>
                <a:spcPts val="700"/>
              </a:spcBef>
              <a:buClr>
                <a:srgbClr val="ff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econventional</a:t>
            </a:r>
            <a:endParaRPr b="0" lang="en-US" sz="2800" spc="-1" strike="noStrike">
              <a:solidFill>
                <a:srgbClr val="666699"/>
              </a:solidFill>
              <a:latin typeface="Verdana"/>
            </a:endParaRPr>
          </a:p>
          <a:p>
            <a:pPr lvl="1" marL="914400" indent="-457200">
              <a:spcBef>
                <a:spcPts val="700"/>
              </a:spcBef>
              <a:buClr>
                <a:srgbClr val="ff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ventional</a:t>
            </a:r>
            <a:endParaRPr b="0" lang="en-US" sz="2800" spc="-1" strike="noStrike">
              <a:solidFill>
                <a:srgbClr val="666699"/>
              </a:solidFill>
              <a:latin typeface="Verdana"/>
            </a:endParaRPr>
          </a:p>
          <a:p>
            <a:pPr lvl="1" marL="914400" indent="-457200">
              <a:spcBef>
                <a:spcPts val="700"/>
              </a:spcBef>
              <a:buClr>
                <a:srgbClr val="ff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stconventional, autonomous, principle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ABE5B331-142D-425F-9CAF-053E32B971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Foundations of Ethical Behavior</a:t>
            </a:r>
            <a:endParaRPr b="0" lang="en-US" sz="44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eleological approach </a:t>
            </a:r>
            <a:endParaRPr b="0" lang="en-US" sz="2800" spc="-1" strike="noStrike">
              <a:solidFill>
                <a:srgbClr val="666699"/>
              </a:solidFill>
              <a:latin typeface="Verdana"/>
            </a:endParaRPr>
          </a:p>
          <a:p>
            <a:pPr lvl="1" marL="743040" indent="-2858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cisions are based on the consequences of the action</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Utilitarianism </a:t>
            </a:r>
            <a:endParaRPr b="0" lang="en-US" sz="2800" spc="-1" strike="noStrike">
              <a:solidFill>
                <a:srgbClr val="666699"/>
              </a:solidFill>
              <a:latin typeface="Verdana"/>
            </a:endParaRPr>
          </a:p>
          <a:p>
            <a:pPr lvl="1" marL="743040" indent="-2858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ction is right if it produces the greatest amount of good</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ontological approach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ral judgments are made and moral reasoning occurs independently of consequences   </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C35AAC64-8930-4315-ABFE-1D327921315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Do Companies Care? </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thical behavior can help a compan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velop a competitive advantage</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void being perceived as irresponsibl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a:t>
            </a:r>
            <a:fld id="{08E164A7-8E50-411E-91B8-DF428F88F81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Cultural and Legal Foundations of Ethical Behavior</a:t>
            </a:r>
            <a:endParaRPr b="0" lang="en-US" sz="4400" spc="-1" strike="noStrike">
              <a:solidFill>
                <a:srgbClr val="6f6e4a"/>
              </a:solidFill>
              <a:latin typeface="Georgi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monstrate the cultural and legal foundations of ethical behavio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2:29:20Z</dcterms:created>
  <dc:creator>Veronica</dc:creator>
  <dc:description/>
  <dc:language>en-US</dc:language>
  <cp:lastModifiedBy>Mike</cp:lastModifiedBy>
  <dcterms:modified xsi:type="dcterms:W3CDTF">2014-01-07T14:35:10Z</dcterms:modified>
  <cp:revision>16</cp:revision>
  <dc:subject/>
  <dc:title>International Business Environments &amp; Operations</dc:title>
</cp:coreProperties>
</file>