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734E-9198-46EB-BDFD-A3B1ED2993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EE54-6E89-48DD-B85C-2BFC6D15FE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1825-C6EE-46F5-B7DF-FCFEB8D996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show the effects of pressure groups on trade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82EE-F2E4-43FC-BFCE-7CD8CD4608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people are one of the most effective pressure groups for restrictions on imports.  But, trying to fix employment problems using trade policy can create new challe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that are often associated with import restrictions include higher prices and higher taxes.  Governments must balance the potential for these costs with the benefits of creating new jobs.  Fiscal and monetary policies may be more effective at correcting unemployment problem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6123-000D-4F97-80F9-8730F03DC6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escribe the potential and actual effects of governmental intervention on the free flow of tra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73BB-FED8-4A4E-9413-ACD5D2270D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infant industry argument, production becomes more competitive over time because of increased economies of scale and greater work efficiency.  Therefore, if an emerging industry is protected during its infancy it has a greater chance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eveloping countries use this argument as a rationale for implementing protectionist poli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ough that production costs may never fall far enough to make an industry competitive making it important to clearly identify those industries with the greatest chance for success.  Even then, because of the costs involved, protectionism may not be automatic.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F8C1-99D5-4041-A165-C523331A66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countries with higher per capita GDP have larger manufacturing bases.   So, countries that are trying to develop an industrial base may intervene in trade flows.  The United States for example, has restricted imports to grow its manufacturing ba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9979-0357-4D06-B1F4-C8F1F21107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industrialization argument, the development of a domestic industry is hampered by unregulated imports of lower-priced products. </a:t>
            </a:r>
            <a:r>
              <a:rPr b="1" lang="en-US" sz="1200" spc="-1" strike="noStrike">
                <a:solidFill>
                  <a:srgbClr val="000000"/>
                </a:solidFill>
                <a:latin typeface="Arial"/>
              </a:rPr>
              <a:t> </a:t>
            </a:r>
            <a:r>
              <a:rPr b="0" lang="en-US" sz="1200" spc="-1" strike="noStrike">
                <a:solidFill>
                  <a:srgbClr val="000000"/>
                </a:solidFill>
                <a:latin typeface="Arial"/>
              </a:rPr>
              <a:t> This argument is based on several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shift out of agriculture without much effect on total output.  However, it’s important to keep in mind that when this type of shift occurs, not only does demand on social and political services in cities increase, development possibilities in the agricultural sector could also be overloo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ward investment could occur if import restrictions keep out foreign-made goods.   Moreover, developing an industrialization basis is an important step in diversifying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may also seek to develop their industrial base in order to improve their </a:t>
            </a:r>
            <a:r>
              <a:rPr b="1" lang="en-US" sz="1200" spc="-1" strike="noStrike">
                <a:solidFill>
                  <a:srgbClr val="000000"/>
                </a:solidFill>
                <a:latin typeface="Arial"/>
              </a:rPr>
              <a:t>terms of trade </a:t>
            </a:r>
            <a:r>
              <a:rPr b="0" lang="en-US" sz="1200" spc="-1" strike="noStrike">
                <a:solidFill>
                  <a:srgbClr val="000000"/>
                </a:solidFill>
                <a:latin typeface="Arial"/>
              </a:rPr>
              <a:t>– the prices of agricultural commodities and raw materials has historically grown more slowly than prices of manufactured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untries like Taiwan that have shown tremendous growth have followed policies known as </a:t>
            </a:r>
            <a:r>
              <a:rPr b="1" lang="en-US" sz="1200" spc="-1" strike="noStrike">
                <a:solidFill>
                  <a:srgbClr val="000000"/>
                </a:solidFill>
                <a:latin typeface="Arial"/>
              </a:rPr>
              <a:t>export led development </a:t>
            </a:r>
            <a:r>
              <a:rPr b="0" lang="en-US" sz="1200" spc="-1" strike="noStrike">
                <a:solidFill>
                  <a:srgbClr val="000000"/>
                </a:solidFill>
                <a:latin typeface="Arial"/>
              </a:rPr>
              <a:t>making protectionism attractive.  Moreover, industrialization and the nation-building process seem to be linked.  Industrialization emphasizes products to sell domestically or products to ex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58DF-6134-4745-94FC-4178D7A25F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can use trade controls to improve their relationships with other countries.  In addition to using trade restrictions to improve the nation’s balance of payments, governments may also intervene in trade to ensure that domestic producers have the same access to other markets as foreign companies have to their markets, to encourage countries to change their policies, and to control p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governments have to be careful when using trade restrictions to control prices.  If prices get too high, it could result in smuggling or substitution.  Similarly, if prices get too low, there’s an incentive to produce less or to shift foreign production and s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restrictions can be used to prevent a practice known as dumping which involves exporting below cost or below home country prices, and to get foreign producers to lower their prices.  According to the optimum tariff theory, a foreign producer will lower its prices if the importing company places a tax on its products.</a:t>
            </a: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34F1-4388-4E09-AE3C-02FBFDA689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governments may intervene in trade for political reasons including maintaining essential industries, promoting acceptable practices abroad, maintaining or extending spheres of influence, or preserving national cult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BCF2-7DE1-4B9F-AAA1-5B2866DDFB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industry argument of protecting certain industries to avoid dependency on foreign supplies can be appealing, but keep in mind that in theory almost any product could be deemed ess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AFEE-FAA2-40CC-A150-8B5D114A7E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s can use trade policy to encourage or discourage certain types of behavior by other countri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9FE9-70E7-4949-9173-0593A81C71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Governmental Influence on Tra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D443-70D5-46EB-AAC5-35341B8C8E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restrictions can also be used to support a country’s sphere of influen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7789-B0EC-426B-866A-B1793C2C79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ing the collective identity that sets their citizens apart from those in other nations, is another reason why countries intervene in trade flows.  Rice imports were strictly limited for years in Japan for example, because rice farming was considered to be a historically cohesive force in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6647-1AF9-4B3A-BF12-E16C574D38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illustrate the major means by which trade is restricted and regulat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0B71-C894-4884-BD2E-484B34E41F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ways to intervene in trade flows.  It’s important to choose the right instrument to achieve a particular objectiv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8833-7C45-4B41-98B9-37E13873BD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iffs directly influence prices, while nontariff barriers affect either price or quantity.   When a country assesses a tariff on a per unit basis it’s applying a specific duty.   A tariff that’s assessed as a percentage of the item’s value is an ad valorem tariff.  A compound duty is due when both a specific and an ad valorem tariff are ass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F275-E64A-4A6D-A0D9-F70056643D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ariff barriers can affect either quantity sold or price.  Subsidies are one of the most common ways to influence pric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9FA3-D514-4955-824F-F8E2973779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ubsidies which help companies be more competitive, other policies that affect price include aid and loans to help companies win contracts, arbitrary customs valuations, and other special fees and requirements that ultimately result in higher priced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0BD4-DEF5-4249-9811-AF822D7EC2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nontariff barriers that directly influence the quantity of imports are quotas which limit the quantity of a product that can be exported or imported.  Voluntary export restraints and embargoes that prohibit all trade are types of quot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8160-4DA1-440D-A7D1-C2CE2A848A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ontariff barriers affecting quantity include “buy local” legislation, special standards and labels, specific permission requirements, administrative delays, and reciprocal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rade restrictions affect services as well as manufactured and agricultural products.  Countries deciding whether to restrict trade in services consider essentiality, not-for-profit-preference, standards, and immigration.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547E-0976-48C7-8A80-07F00840A3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demonstrate the business uncertainties and business opportunities created by governmental trade polic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DA63-3721-407B-9430-D327BFAD1F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the rationales for governmental policies that enhance and restrict tr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 the effects of pressure groups on trade poli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the potential and actual effects of governmental intervention on the free flow of tr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the major means by which trade is restricted and regul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business uncertainties and business opportunities created by governmental trade polic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8887-8F0A-4802-B025-EF71510A4E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facing losses because of import competition have several option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73A6-B09F-481E-AC57-B5A22E533E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ctics for dealing with import competition vary according to industry and business.  It’s not always possible, for example, to simply shift production to another location or find new suppl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n international strategy can help determine whether a company will benefit more from protectionist measures or from some other method of countering foreign competiti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81D4-CD96-4F79-B91F-8DB141265B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ward, there is likely to be both support for freer trade, and also support for more protectionis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FF81-98B5-43EF-9BDD-DCFCB5491F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203E-6A76-4DD5-A451-BF30370A95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ree trade is beneficial, in reality all countries regulate the flow of goods and services across their borders.  Governments want to help companies that are struggling, but it’s difficult to do so without hurting those that are doing wel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B628-AB0C-4659-B157-74B40AF3F9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physical and social factors that affect the flow of goods an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58A8-25E1-4D06-BB3B-6C0BC6DAEB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fficials use trade policy to try to achieve economic, social, and political goals.  However, their efforts are hampered by uncertain and conflicting policy outcomes, as well as the goals of special interest group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3005-C8E5-44E7-B254-2E13DA8DDA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government policies often spark fierce debate among those who could be affected.  Those who are most directly affected tend to be loudest in voicing their conc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516F-68C9-4BB8-8258-EC201C63E1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explain the rationales for governmental policies that enhance and restrict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8A9C-7C55-484D-B979-CF663D59FB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reasons for government intervention in trade.  Notice that there are both economic and noneconomic reasons for interven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6B358-F1C6-47B5-A4B1-B612B3D44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9685-C773-463E-84EC-313D1CBF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4759-0C8B-44D1-8DCE-3712B8996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AAE2F-C5F8-493A-BDBB-581F2B55F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6B5B1-730E-4980-B7A5-0AD270BE3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AFCF6-7533-4847-8CB9-956121451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C2916-912C-4A04-877C-2DEB4C88E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0A6C9-AE25-46AC-A4C3-9571F3D7A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6E704-BB79-4818-8542-A65722A1C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C6629-ED7D-4638-BD4C-7C86236D3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93C50-FFBD-4B4C-A7DB-47BA69287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2F87-C972-41F7-B810-31D1BEA4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E828E-BDEE-432D-A1CF-7B505C056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DA7E1-8761-494A-90F6-F22E1662E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F302C-854B-4BE6-B812-EA1A5F7B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3F4A3-1792-4E95-B7D2-E2F02D578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9A086-28CD-4F00-B786-40C3925D9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E37B-2206-40F7-AAEA-6F5F239B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B9F51-2286-4E90-A5B1-B13E0560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A1ED-0310-4AB7-A387-AD1468C90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1B118-697B-4F24-B01C-A974FCD9F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2F1B-78ED-49AB-9B71-63CA9401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09C8-6A81-4A47-B388-261A378A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1A41-45E6-46C8-8D58-231BEB8B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fld id="{6EC2BD80-8482-44C4-A044-D7F1A7D7EC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fld id="{DE08B6F0-4870-4B96-93C9-73B215B34C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08D8F345-1E45-4812-8B6C-CEB695CFA78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4DADDA1-7774-461D-88C6-657B57C6E51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ighting Unemployment</a:t>
            </a:r>
            <a:endParaRPr b="0" lang="en-US" sz="4800" spc="-1" strike="noStrike">
              <a:solidFill>
                <a:srgbClr val="6f6e4a"/>
              </a:solidFill>
              <a:latin typeface="Georgi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show the effects of pressure groups on trade polic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31C4DA7-5104-43BE-A389-A92B55F0704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ighting Unemployment</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unemployed are the most effective pressure group</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t, import restriction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can lead to retaliation by other countrie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are less likely retaliated against effectively by small economie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are less likely to be met with retaliation if implemented by small economie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may decrease export jobs because of price increases for component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may decrease export jobs because of lower incomes abroad</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8EC0A649-A265-4A59-B801-57F6E669CDF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tecting ‘Infant Industries’</a:t>
            </a:r>
            <a:endParaRPr b="0" lang="en-US" sz="4800" spc="-1" strike="noStrike">
              <a:solidFill>
                <a:srgbClr val="6f6e4a"/>
              </a:solidFill>
              <a:latin typeface="Georgi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the potential and actual effects of governmental intervention on the free flow of trad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A0FE017D-D3D2-450C-9841-3599B911A8A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otecting ‘Infant Industries’</a:t>
            </a:r>
            <a:endParaRPr b="0" lang="en-US" sz="4800" spc="-1" strike="noStrike">
              <a:solidFill>
                <a:srgbClr val="6f6e4a"/>
              </a:solidFill>
              <a:latin typeface="Georgi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infant industry argum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protection of import competition is necessary to help certain industries evolve from high-cost to low-cost produc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sed by developing countr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63219CD-25A5-440A-800C-D3FB33702B2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veloping an Industrial Base</a:t>
            </a:r>
            <a:endParaRPr b="0" lang="en-US" sz="4400" spc="-1" strike="noStrike">
              <a:solidFill>
                <a:srgbClr val="6f6e4a"/>
              </a:solidFill>
              <a:latin typeface="Georgi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ies promote industrialization because i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ings faster growth than agricultur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ings in investment fund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versifies the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rings more income than primary products do</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es imports and promotes expor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elps the nation-building proces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1C6C22EE-A28A-4C7E-892F-28B8CF37F31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veloping an Industrial Base</a:t>
            </a:r>
            <a:endParaRPr b="0" lang="en-US" sz="4400" spc="-1" strike="noStrike">
              <a:solidFill>
                <a:srgbClr val="6f6e4a"/>
              </a:solidFill>
              <a:latin typeface="Georgi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industrialization argument </a:t>
            </a:r>
            <a:endParaRPr b="0" lang="en-US" sz="28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regulated imports of lower priced products prevents the development of a domestic industry</a:t>
            </a:r>
            <a:endParaRPr b="0" lang="en-US" sz="2400" spc="-1" strike="noStrike">
              <a:solidFill>
                <a:srgbClr val="666699"/>
              </a:solidFill>
              <a:latin typeface="Verdana"/>
            </a:endParaRPr>
          </a:p>
          <a:p>
            <a:pPr marL="343080" indent="-343080">
              <a:lnSpc>
                <a:spcPct val="8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ssumptions</a:t>
            </a:r>
            <a:endParaRPr b="0" lang="en-US" sz="28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rplus Workers</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vestment Inflows</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versification</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in Manufactured Goods</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ort Substitution and Export-Led Development</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ation Building</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4A9307F5-52B7-4A1E-8515-26C7B30CE1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Relationships </a:t>
            </a:r>
            <a:br>
              <a:rPr sz="4400"/>
            </a:br>
            <a:r>
              <a:rPr b="0" lang="en-US" sz="4400" spc="-1" strike="noStrike">
                <a:solidFill>
                  <a:srgbClr val="6f6e4a"/>
                </a:solidFill>
                <a:latin typeface="Georgia"/>
              </a:rPr>
              <a:t>With Other Countries</a:t>
            </a:r>
            <a:endParaRPr b="0" lang="en-US" sz="4400" spc="-1" strike="noStrike">
              <a:solidFill>
                <a:srgbClr val="6f6e4a"/>
              </a:solidFill>
              <a:latin typeface="Georgi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rade controls can be used</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improve the balance of paymen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gain fair access to foreign market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omparable access argu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 a bargaining tool</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lievability and importa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control pric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dumping</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optimum-tariff theor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C7D3958B-A3EC-4E75-A407-8AAC366C39A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economic Rationales for Government Intervention</a:t>
            </a:r>
            <a:endParaRPr b="0" lang="en-US" sz="4400" spc="-1" strike="noStrike">
              <a:solidFill>
                <a:srgbClr val="6f6e4a"/>
              </a:solidFill>
              <a:latin typeface="Georgi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economic rationales includ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intaining essential industr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ing acceptable practices abroa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intaining or extending spheres of influe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eserving national cultur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FA896996-BE8C-4FF4-9A35-917E4CA57BD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f6e4a"/>
                </a:solidFill>
                <a:latin typeface="Georgia"/>
              </a:rPr>
              <a:t>Maintaining Essential Industries</a:t>
            </a:r>
            <a:endParaRPr b="0" lang="en-US" sz="4000" spc="-1" strike="noStrike">
              <a:solidFill>
                <a:srgbClr val="6f6e4a"/>
              </a:solidFill>
              <a:latin typeface="Georgi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essential industry argume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tect essential industries so the country is not dependent on foreign supplies during w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ies mus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 which industries are essenti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ider costs and alternativ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sider political consequence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305A685D-368F-4DEC-A963-FD558F507A6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romoting Acceptable </a:t>
            </a:r>
            <a:br>
              <a:rPr sz="4400"/>
            </a:br>
            <a:r>
              <a:rPr b="0" lang="en-US" sz="4400" spc="-1" strike="noStrike">
                <a:solidFill>
                  <a:srgbClr val="6f6e4a"/>
                </a:solidFill>
                <a:latin typeface="Georgia"/>
              </a:rPr>
              <a:t>Practices Abroad</a:t>
            </a:r>
            <a:endParaRPr b="0" lang="en-US" sz="4400" spc="-1" strike="noStrike">
              <a:solidFill>
                <a:srgbClr val="6f6e4a"/>
              </a:solidFill>
              <a:latin typeface="Georgi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mport trade controls can be used</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promote changes in foreign countries’ political policies or capabilit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 a foreign policy weap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pressure governments to alter their stances on a variety of issue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uman right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vironmental protection </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E62EDE32-F169-44C7-9C66-E8825A928F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7</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Governmental Influence on Trade</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8602C455-91D9-4A24-BFF5-57F62EC153D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Maintaining or Extending Spheres of Influence</a:t>
            </a:r>
            <a:endParaRPr b="0" lang="en-US" sz="4400" spc="-1" strike="noStrike">
              <a:solidFill>
                <a:srgbClr val="6f6e4a"/>
              </a:solidFill>
              <a:latin typeface="Georgi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overnments provide assistance and encourage imports from countries that join a political alliance or vote a preferred way within international bod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tonou Agreement</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untry’s trade restrictions may coerce governments to follow certain political actions or punish companies whose governments do no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7E862E49-1D29-4BAE-9235-EC905848DFE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reserving National Culture</a:t>
            </a:r>
            <a:endParaRPr b="0" lang="en-US" sz="4800" spc="-1" strike="noStrike">
              <a:solidFill>
                <a:srgbClr val="6f6e4a"/>
              </a:solidFill>
              <a:latin typeface="Georgi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order to preserve national culture, count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mit foreign products and services in certain sector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nada’s cultural sovereign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hibit exports of art and historical items deemed important to national heritage</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B7A2AC4F-70C5-4AD6-9F4A-53F1D0B8D6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struments of Trade Control</a:t>
            </a:r>
            <a:endParaRPr b="0" lang="en-US" sz="4800" spc="-1" strike="noStrike">
              <a:solidFill>
                <a:srgbClr val="6f6e4a"/>
              </a:solidFill>
              <a:latin typeface="Georgi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illustrate the major means by which trade is restricted and regulate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8A956902-BF36-4C3E-9B8B-0DDBDEA3C20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struments of Trade Control</a:t>
            </a:r>
            <a:endParaRPr b="0" lang="en-US" sz="4800" spc="-1" strike="noStrike">
              <a:solidFill>
                <a:srgbClr val="6f6e4a"/>
              </a:solidFill>
              <a:latin typeface="Georgi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types of trade contro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ose that indirectly affect the amount traded by directly influencing prices of exports or impor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ose that directly limit the amount of a good that can be traded</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1A7E4C4B-1498-41A8-89C9-11AD1962F7B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ariffs</a:t>
            </a:r>
            <a:endParaRPr b="0" lang="en-US" sz="4800" spc="-1" strike="noStrike">
              <a:solidFill>
                <a:srgbClr val="6f6e4a"/>
              </a:solidFill>
              <a:latin typeface="Georgi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ariffs </a:t>
            </a:r>
            <a:r>
              <a:rPr b="0" lang="en-US" sz="2800" spc="-1" strike="noStrike">
                <a:solidFill>
                  <a:srgbClr val="666699"/>
                </a:solidFill>
                <a:latin typeface="Verdana"/>
              </a:rPr>
              <a:t>are</a:t>
            </a:r>
            <a:r>
              <a:rPr b="1" lang="en-US" sz="2800" spc="-1" strike="noStrike">
                <a:solidFill>
                  <a:srgbClr val="666699"/>
                </a:solidFill>
                <a:latin typeface="Verdana"/>
              </a:rPr>
              <a:t> </a:t>
            </a:r>
            <a:r>
              <a:rPr b="0" lang="en-US" sz="2800" spc="-1" strike="noStrike">
                <a:solidFill>
                  <a:srgbClr val="666699"/>
                </a:solidFill>
                <a:latin typeface="Verdana"/>
              </a:rPr>
              <a:t>also known as </a:t>
            </a:r>
            <a:r>
              <a:rPr b="1" lang="en-US" sz="2800" spc="-1" strike="noStrike">
                <a:solidFill>
                  <a:srgbClr val="666699"/>
                </a:solidFill>
                <a:latin typeface="Verdana"/>
              </a:rPr>
              <a:t>duti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fer to a government levied tax on goods shipped internationall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ariffs may be levied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n goods entering, leaving, or passing through a country </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 protection or revenu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n a per unit basis or a value basi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xport tariff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ansit tariff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mport tariff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2F37B41-0153-493B-B20E-9F6F77117DB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tariff Barriers: </a:t>
            </a:r>
            <a:br>
              <a:rPr sz="4400"/>
            </a:br>
            <a:r>
              <a:rPr b="0" lang="en-US" sz="4400" spc="-1" strike="noStrike">
                <a:solidFill>
                  <a:srgbClr val="6f6e4a"/>
                </a:solidFill>
                <a:latin typeface="Georgia"/>
              </a:rPr>
              <a:t>Direct Price Influencers  </a:t>
            </a:r>
            <a:endParaRPr b="0" lang="en-US" sz="4400" spc="-1" strike="noStrike">
              <a:solidFill>
                <a:srgbClr val="6f6e4a"/>
              </a:solidFill>
              <a:latin typeface="Georgia"/>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bsidi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rect assistance to companies to make them more competitiv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gricultural subsidie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vercoming market imperfection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valuation problem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04046DA-229F-485B-9101-4A7D2990763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tariff Barriers: </a:t>
            </a:r>
            <a:br>
              <a:rPr sz="4400"/>
            </a:br>
            <a:r>
              <a:rPr b="0" lang="en-US" sz="4400" spc="-1" strike="noStrike">
                <a:solidFill>
                  <a:srgbClr val="6f6e4a"/>
                </a:solidFill>
                <a:latin typeface="Georgia"/>
              </a:rPr>
              <a:t>Direct Price Influencers  </a:t>
            </a:r>
            <a:endParaRPr b="0" lang="en-US" sz="44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id and loa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ied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tied</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stoms valu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ther direct-price influences</a:t>
            </a:r>
            <a:r>
              <a:rPr b="1"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pecial fees and requirements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D16453B6-2492-4C95-94D9-F1B3257C1D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tariff Barriers: </a:t>
            </a:r>
            <a:br>
              <a:rPr sz="4400"/>
            </a:br>
            <a:r>
              <a:rPr b="0" lang="en-US" sz="4400" spc="-1" strike="noStrike">
                <a:solidFill>
                  <a:srgbClr val="6f6e4a"/>
                </a:solidFill>
                <a:latin typeface="Georgia"/>
              </a:rPr>
              <a:t>Quantity Controls</a:t>
            </a:r>
            <a:endParaRPr b="0" lang="en-US" sz="4400" spc="-1" strike="noStrike">
              <a:solidFill>
                <a:srgbClr val="6f6e4a"/>
              </a:solidFill>
              <a:latin typeface="Georgi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Quota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mit the quantity of a product that can be imported or exported in a given time frame</a:t>
            </a:r>
            <a:r>
              <a:rPr b="1" lang="en-US" sz="2800" spc="-1" strike="noStrike">
                <a:solidFill>
                  <a:srgbClr val="666699"/>
                </a:solidFill>
                <a:latin typeface="Verdana"/>
              </a:rPr>
              <a:t> </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Voluntary export restraint (VER)</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mbargo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A90EAB0C-474A-44FC-B4CC-4FD96F5F0C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Nontariff Barriers: </a:t>
            </a:r>
            <a:br>
              <a:rPr sz="4400"/>
            </a:br>
            <a:r>
              <a:rPr b="0" lang="en-US" sz="4400" spc="-1" strike="noStrike">
                <a:solidFill>
                  <a:srgbClr val="6f6e4a"/>
                </a:solidFill>
                <a:latin typeface="Georgia"/>
              </a:rPr>
              <a:t>Quantity Controls</a:t>
            </a:r>
            <a:endParaRPr b="0" lang="en-US" sz="4400" spc="-1" strike="noStrike">
              <a:solidFill>
                <a:srgbClr val="6f6e4a"/>
              </a:solidFill>
              <a:latin typeface="Georgia"/>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t>
            </a:r>
            <a:r>
              <a:rPr b="0" lang="en-US" sz="2800" spc="-1" strike="noStrike">
                <a:solidFill>
                  <a:srgbClr val="666699"/>
                </a:solidFill>
                <a:latin typeface="Verdana"/>
              </a:rPr>
              <a:t>Buy local” legisl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andards and label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pecific permission requireme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mport or export license</a:t>
            </a:r>
            <a:r>
              <a:rPr b="1" lang="en-US" sz="2400" spc="-1" strike="noStrike">
                <a:solidFill>
                  <a:srgbClr val="666699"/>
                </a:solidFill>
                <a:latin typeface="Verdana"/>
              </a:rPr>
              <a:t>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ministrative delay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ciprocal require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strictions on servic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7599E4DB-C509-4C1B-9504-C4EAD56675F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Governmental Trade Influencers</a:t>
            </a:r>
            <a:endParaRPr b="0" lang="en-US" sz="4400" spc="-1" strike="noStrike">
              <a:solidFill>
                <a:srgbClr val="6f6e4a"/>
              </a:solidFill>
              <a:latin typeface="Georgi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monstrate the business uncertainties and business opportunities created by governmental trade policies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C68A2AE1-E744-4981-B474-DE95833BE5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the rationales for governmental policies that enhance and restrict trade</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show the effects of pressure groups on trade policies</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the potential and actual effects of governmental intervention on the free flow of trade</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illustrate the major means by which trade is restricted and regulated</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monstrate the business uncertainties and business opportunities created by governmental trade policies</a:t>
            </a:r>
            <a:endParaRPr b="0" lang="en-US" sz="2400" spc="-1" strike="noStrike">
              <a:solidFill>
                <a:srgbClr val="66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02F85C19-0A7F-4085-865A-45753C9919D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Governmental Trade Influencers</a:t>
            </a:r>
            <a:endParaRPr b="0" lang="en-US" sz="4400" spc="-1" strike="noStrike">
              <a:solidFill>
                <a:srgbClr val="6f6e4a"/>
              </a:solidFill>
              <a:latin typeface="Georgi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facing import competition ca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ve abroa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ek other market nich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ke domestic output competitiv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y to get protec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CCEF2808-9645-4EA5-A6AA-0FAC7E31B8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actics For Dealing </a:t>
            </a:r>
            <a:br>
              <a:rPr sz="4400"/>
            </a:br>
            <a:r>
              <a:rPr b="0" lang="en-US" sz="4400" spc="-1" strike="noStrike">
                <a:solidFill>
                  <a:srgbClr val="6f6e4a"/>
                </a:solidFill>
                <a:latin typeface="Georgia"/>
              </a:rPr>
              <a:t>With Import Competition</a:t>
            </a:r>
            <a:endParaRPr b="0" lang="en-US" sz="44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vince decision makers of the merits of particular polici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volve the industry and stakehold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epare for changes in the competitive environment</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76BE1B49-4510-4BE7-ACC5-4223FA127EF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ynamics and Complexity</a:t>
            </a:r>
            <a:endParaRPr b="0" lang="en-US" sz="48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rade restriction changes bring about winners and losers among countries, companies, and worker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ains to consumers from freer trade may come at the expense of companies and worker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international regulatory situation is becoming more complex</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3ABF6ABF-AD37-4A39-A3D8-691BB881FDF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30"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7BB7006A-4C72-4308-A96A-C0802E74DC4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rotectionism  </a:t>
            </a:r>
            <a:r>
              <a:rPr b="0" lang="en-US" sz="2800" spc="-1" strike="noStrike">
                <a:solidFill>
                  <a:srgbClr val="666699"/>
                </a:solidFill>
                <a:latin typeface="Verdana"/>
              </a:rPr>
              <a:t>-</a:t>
            </a:r>
            <a:r>
              <a:rPr b="1" lang="en-US" sz="2800" spc="-1" strike="noStrike">
                <a:solidFill>
                  <a:srgbClr val="666699"/>
                </a:solidFill>
                <a:latin typeface="Verdana"/>
              </a:rPr>
              <a:t> </a:t>
            </a:r>
            <a:r>
              <a:rPr b="0" lang="en-US" sz="2800" spc="-1" strike="noStrike">
                <a:solidFill>
                  <a:srgbClr val="666699"/>
                </a:solidFill>
                <a:latin typeface="Verdana"/>
              </a:rPr>
              <a:t>policies th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ffect the ability of foreign producers to compete in your home marke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mit or enhance your company’s ability to sell abroad or acquire needed foreign supplies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5C5CDD1F-E74F-4A87-91B6-AB0B7D2BD3F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Physical and Social Factors Affecting the Flow of Goods and Services</a:t>
            </a:r>
            <a:endParaRPr b="0" lang="en-US" sz="1800" spc="-1" strike="noStrike">
              <a:solidFill>
                <a:srgbClr val="666699"/>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17" name="Picture 4" descr=""/>
          <p:cNvPicPr/>
          <p:nvPr/>
        </p:nvPicPr>
        <p:blipFill>
          <a:blip r:embed="rId1"/>
          <a:stretch/>
        </p:blipFill>
        <p:spPr>
          <a:xfrm>
            <a:off x="457200" y="2133720"/>
            <a:ext cx="822960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D079892F-8529-45A0-9A0A-0514F6AB721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nflicting Results </a:t>
            </a:r>
            <a:br>
              <a:rPr sz="4400"/>
            </a:br>
            <a:r>
              <a:rPr b="0" lang="en-US" sz="4400" spc="-1" strike="noStrike">
                <a:solidFill>
                  <a:srgbClr val="6f6e4a"/>
                </a:solidFill>
                <a:latin typeface="Georgia"/>
              </a:rPr>
              <a:t>of Trade Policies</a:t>
            </a:r>
            <a:endParaRPr b="0" lang="en-US" sz="4400" spc="-1" strike="noStrike">
              <a:solidFill>
                <a:srgbClr val="6f6e4a"/>
              </a:solidFill>
              <a:latin typeface="Georgia"/>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overnments intervene in trade to achieve  economic, social, and political goal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olicymakers are challenged b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flicting objectiv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est group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FDF2667C-4908-4636-81E7-CDC074E1CFC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Role of Stakeholders</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posed policies on trade spark debate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akeholders includ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wn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ppli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cal politician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sumers usually don’t care</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8E1B182D-AD35-4567-A8AB-DE2C63A6C61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Rationales for Government Intervention</a:t>
            </a:r>
            <a:endParaRPr b="0" lang="en-US" sz="44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the rationales for governmental policies that enhance and restrict trad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a:t>
            </a:r>
            <a:fld id="{1C1A01C3-71D4-45A6-A777-F804B1FEB28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Rationales for Government Intervention</a:t>
            </a:r>
            <a:endParaRPr b="0" lang="en-US" sz="44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Why Governments Intervene in Trade</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4" name="Picture 4" descr=""/>
          <p:cNvPicPr/>
          <p:nvPr/>
        </p:nvPicPr>
        <p:blipFill>
          <a:blip r:embed="rId1"/>
          <a:stretch/>
        </p:blipFill>
        <p:spPr>
          <a:xfrm>
            <a:off x="792000" y="2698920"/>
            <a:ext cx="7558200" cy="146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1:24:26Z</dcterms:created>
  <dc:creator>Veronica</dc:creator>
  <dc:description/>
  <dc:language>en-US</dc:language>
  <cp:lastModifiedBy>Mike</cp:lastModifiedBy>
  <dcterms:modified xsi:type="dcterms:W3CDTF">2014-01-07T14:35:52Z</dcterms:modified>
  <cp:revision>17</cp:revision>
  <dc:subject/>
  <dc:title>International Business Environments &amp; Operations</dc:title>
</cp:coreProperties>
</file>