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5F63-F117-4534-8E7D-57611BE9A1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46F0-E2D5-416E-B373-7AA6B251DF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26F7-EB6D-4DC4-8F47-2706D41293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are increasingly willing to sidestep  the multilateral system and engage in bilateral agreements in order to achieve their objectiv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83CB-7552-4900-B8AA-E8192983D0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trade agreements or RTAs, also known </a:t>
            </a:r>
            <a:r>
              <a:rPr b="0" i="1" lang="en-US" sz="1200" spc="-1" strike="noStrike">
                <a:solidFill>
                  <a:srgbClr val="000000"/>
                </a:solidFill>
                <a:latin typeface="Arial"/>
              </a:rPr>
              <a:t>preferential trade agreements</a:t>
            </a:r>
            <a:r>
              <a:rPr b="0" lang="en-US" sz="1200" spc="-1" strike="noStrike">
                <a:solidFill>
                  <a:srgbClr val="000000"/>
                </a:solidFill>
                <a:latin typeface="Arial"/>
              </a:rPr>
              <a:t>, give member countries special treatment.  They began to emerge after World War II when nations saw the benefits of cooperation and larger market siz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18A9-9972-40A3-A7F7-958F60A209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a:t>
            </a:r>
            <a:r>
              <a:rPr b="1" lang="en-US" sz="1200" spc="-1" strike="noStrike">
                <a:solidFill>
                  <a:srgbClr val="000000"/>
                </a:solidFill>
                <a:latin typeface="Arial"/>
              </a:rPr>
              <a:t> </a:t>
            </a:r>
            <a:r>
              <a:rPr b="0" lang="en-US" sz="1200" spc="-1" strike="noStrike">
                <a:solidFill>
                  <a:srgbClr val="000000"/>
                </a:solidFill>
                <a:latin typeface="Arial"/>
              </a:rPr>
              <a:t>To define different forms of regional economic integr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608B-DDA0-4BB1-B5E4-5B1A620267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types if economic integration are the free trade area, the customs union, and the common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07C1-7FB9-4FBB-B397-6DFE157843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escribe the static and dynamic impact of trade agreements on trade and investment f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A83A-859C-428F-AE0A-952C66A61D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economic integration has </a:t>
            </a:r>
            <a:r>
              <a:rPr b="0" lang="en-US" sz="1200" spc="-1" strike="noStrike">
                <a:solidFill>
                  <a:srgbClr val="000000"/>
                </a:solidFill>
                <a:latin typeface="Avenir-Light"/>
              </a:rPr>
              <a:t>social, cultural, political, and economic eff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static effects of integration are the shifting of resources from inefficient to efficient companies as trade barriers fal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Static effects can develop when there is trade creation or trade diversion. Trade creation occurs when production shifts to more efficient producers for reasons of comparative advantage, while trade diversion occurs when trade shifts to countries in the group at the expense of trade with countries not in the grou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Static effects improve the efficiency of resource allocation and affect both production and consum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Dynamic effects of integration are the overall growth in the market and the impact on a company caused by expanding production and by the company</a:t>
            </a:r>
            <a:r>
              <a:rPr b="0" lang="en-US" sz="1200" spc="-1" strike="noStrike">
                <a:solidFill>
                  <a:srgbClr val="000000"/>
                </a:solidFill>
                <a:latin typeface="Arial"/>
              </a:rPr>
              <a:t>’</a:t>
            </a:r>
            <a:r>
              <a:rPr b="0" lang="en-US" sz="1200" spc="-1" strike="noStrike">
                <a:solidFill>
                  <a:srgbClr val="000000"/>
                </a:solidFill>
                <a:latin typeface="Avenir-Light"/>
              </a:rPr>
              <a:t>s ability to achieve greater economies of sca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Economies of scale occur when the average cost per unit falls as the number of units produced ri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Keep in mind that regional economic integration allows for specialization and trade based on comparative advant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D5A8-EFBF-40D3-858C-6F5FDCE6A1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impact of free trade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8B03-26CE-469A-A7F5-66B1DE19F8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compare and contrast different regional trading group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DB7E-D71B-4280-9221-E6A0D89E7E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much easier to form regional trading groups than larger ones.  One of the most comprehensive and successful regional groups is the European Union which began as a free trade agreement and has since expanded to become a common market that has abolished restrictions on factor mobility and harmonized national, political, economic, and social poli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 has 27 members some of which have joined forces on the bloc’s common currency, the eur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39CC-E0E7-437E-B0E1-BC3365574E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members of the European Union and other important gro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EU has expanded several times over the years to reach its current 27 memb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4193-FD19-4ABF-96A0-B8EB6EB8C0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Cross National Cooperation and Agreem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0D60-3585-4E89-AA05-0F0792DE6E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need to understand the political environment in the European Union.  It has many governing bodies including the European Commission, the Council of the European Union, the European Parliament, the European Court of Justice, and the European Central Ba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E27A-BF07-4E0F-B0AA-7B02D8B820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Single European Act was designed to eliminate the remaining nontariff barriers to trade in Euro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1992, the members of the EU signed the Treaty of Maastricht in part to establish a monetary un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decision to move to a common currency, the </a:t>
            </a:r>
            <a:r>
              <a:rPr b="1" lang="en-US" sz="1200" spc="-1" strike="noStrike">
                <a:solidFill>
                  <a:srgbClr val="000000"/>
                </a:solidFill>
                <a:latin typeface="Palatino-Bold"/>
              </a:rPr>
              <a:t>euro</a:t>
            </a:r>
            <a:r>
              <a:rPr b="0" lang="en-US" sz="1200" spc="-1" strike="noStrike">
                <a:solidFill>
                  <a:srgbClr val="000000"/>
                </a:solidFill>
                <a:latin typeface="Palatino-Bold"/>
              </a:rPr>
              <a:t>, </a:t>
            </a:r>
            <a:r>
              <a:rPr b="0" lang="en-US" sz="1200" spc="-1" strike="noStrike">
                <a:solidFill>
                  <a:srgbClr val="000000"/>
                </a:solidFill>
                <a:latin typeface="Palatino-Roman"/>
              </a:rPr>
              <a:t>in Europe has eliminated currency as a barrier to trade for member coun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The e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Is a common currency in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Is administered by the European Central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Was established on January 1,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Resulted in new bank notes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HelveticaNeue-Roman"/>
              </a:rPr>
              <a:t> </a:t>
            </a:r>
            <a:r>
              <a:rPr b="0" lang="en-US" sz="1200" spc="-1" strike="noStrike">
                <a:solidFill>
                  <a:srgbClr val="000000"/>
                </a:solidFill>
                <a:latin typeface="Avenir-Light"/>
              </a:rPr>
              <a:t>Does not include the United Kingdom, Denmark, Sweden, or eight of the new entrants to the E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72C2-1DCA-4242-951F-EEC4A09E84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nationals need to understand how the EU can influence their corporate strategy.  For example, should they produce in a central location and incur the cost and time to move products from country to country?  Should they acquire a local company as a way to get into the market?  What do the different growth rates across member countries mea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103C-DDC1-429D-94CD-3F6EC5E54C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 American Free Trade Area, or NAFTA, went into effect in 1994, and is the largest bilateral trade agreement in the world.  It’s designed to eliminate tariff barriers and liberalize investment opportunities and trade in services.  Today, the U.S. is Mexico’s and Canada’s largest trading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rules of origin provision of NAFTA, goods and services must originate in North America to get access to lower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6EB5-C43A-4BB6-B7A0-80689FEA0C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FTA lays out various regional content rules that must be met in order to qualify for preferential treatment.  In particular, for a product to be considered North American in terms of country of origin, at least 50 percent of the value of most products must be from North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FTA also addresses several other areas, notably workers rights and the environment.  The agreement, for example, includes certain labor standards such as the right to unionize as well as upgraded environmental standards in 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AFTA was signed, trade and investment have increased significantly.  In fact, many companies look at it as one big regional market, and have been able to take advantage of trade agreements each country has with other nations as well.  Moreover, demand in Mexico continues to rise, thanks in part to the creation of new jobs in the country, and more competitive companies. Keep in mind though, that challenges remain.  One key issue today is illegal 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894C-C1B0-464D-8662-EC212F5186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ix major regional groups in the Americas. The success of each group varies.  CARICOM is modeling its agreement after the EU.  MERCOSUR is at the customs union level.  The Andean Community, while one of the oldest regional economic groups, has  yet to successfully achieve its goals.  Similarly, the Latin American Integration Association is still struggling to achieve its objectiv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15D6-4711-461D-B698-286216568F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countries belonging to CACM, CARICOM, and CAFTA-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8C5-DED3-48DF-8D18-09E96BEEC4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members of CAN, MERCOSUR, and LA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0D52-CB1C-404B-A4CA-9C7F7D4D1B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AN is the fourth largest free trade area in the world.  While the ASEAN free trade area has been very successful, other efforts in the region have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C for example, has had less success in achieving its goals.  The group is not only large and geographically distant, it also lacks a treaty.  However, because it generates such a large percentage of the world’s output and merchandise trade, it’s potential is large.  A key goal for the bloc is to establish open regionalism whereby member countries decide whether to apply trade liberalization to non-APEC countries on an unconditional MFN basis or on a reciprocal FTA basi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DB0C-11E2-4C3C-AB63-7B16B7ACF9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members of AS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87E5-D5A4-4C89-B3F6-BE4FB1DFC6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dentify the major characteristics and challenges of the World Trade Organ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ros and cons of global, bilateral, and regional integ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the static and dynamic impact of trade agreements on trade and investment f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different forms of regional economic integ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are and contrast different regional trading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other forms of global cooperation such as the United Nations and OP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81D7-989B-4E83-B22E-3496000EC2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 number of nations combined with the region’s three monetary unions and five regional trade associations make things complex when it comes to economic integration in Africa.  Several African trade groups have been established, however, they rely more on their former colonial powers and other developed markets for trade than they do on each other.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1781-4393-4722-980F-1F39DC9445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efforts at economic integration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FB5F-8984-4C08-B46B-2DA123803C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6: To describe other forms of global cooperation such as the United Nations and OPE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7CCC-8E9F-4C35-B9DA-4CDA6CA7DA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orms of cooperation can also influence the strategies of multinat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Nations focuses on economic development, antiterrorism, and humanitarian movements.  One organization in the UN is the United Nations Conference on Trade and Development, or UNCTAD.  NGOs like the Red Cross and Doctors without Borders focus on humanitarian issues, while others like Africa Now and Save the Children focus on workers’ right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A4B8-AC53-4B69-97FE-73CFC03F14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countries frequently rely on commodity exports for the hard currency they need for economic development.  If commodity prices aren’t stable, then  earnings aren’t stable ei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ry to ensure greater stability in commodity prices, various agreements have been established.  Most haven’t been very successful, but one, OPEC, has bee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CDA5-F5FE-49E4-AD4B-C890A6B8B1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C has been successful in terms of attempting to stabilize supply and price, but member countries often cheat in order to produce more revenues, and outside events like the civil war in Libya can interfere with the group’s objective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1626-6946-435D-8D6B-11945A4B73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gional integration be the wave of the future, or will the WTO become the focus of global economic integration?  The answer is that regional integration might actually help the WTO achieve its goal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3FF4-7F7E-4594-8F02-F02473C706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F1EC-8DF1-4AA6-841D-192B26500A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groups influence the strategies of multinational companies so it’s important to understand economic integration and its scope. The are three types of economic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ilateral level two countries decide to cooperate more closely.  At the regional level, a group of countries located in the same geographic area cooperate.  At the global level, countries from all over the world cooperate through the World Trade Organiz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2BF4-0AEA-458A-A31E-CFCAB73945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identify the major characteristics and challenges of the World Trad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211D-0959-48C1-B585-D3476A823C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Trade Organization, or WTO, encompasses and extends the General Agreement on Tariffs and Trade, also known as GAT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AECD-BAE0-47E8-8AC8-988C49DC1D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TT was formed by 23 countries in 1947 as mechanism for negotiating the reduction and elimination of trade barriers and for agreeing on the conduct of international trade.   The central tenet of GATT was the MFN clause that required members to open their markets equally to all other member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4EA7-D7CC-4721-9A06-AFF201CE19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TO, which has 153 members, follows the MFN principle of GATT and strives to provide a better means of mediating trade disputes and of enforcing agre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TO does make some exceptions to the MFN principle.  For example, d</a:t>
            </a:r>
            <a:r>
              <a:rPr b="0" lang="en-US" sz="1200" spc="-1" strike="noStrike">
                <a:solidFill>
                  <a:srgbClr val="000000"/>
                </a:solidFill>
                <a:latin typeface="Palatino-Roman"/>
              </a:rPr>
              <a:t>eveloping countries</a:t>
            </a:r>
            <a:r>
              <a:rPr b="0" lang="en-US" sz="1200" spc="-1" strike="noStrike">
                <a:solidFill>
                  <a:srgbClr val="000000"/>
                </a:solidFill>
                <a:latin typeface="Arial"/>
              </a:rPr>
              <a:t>’</a:t>
            </a:r>
            <a:r>
              <a:rPr b="0" lang="en-US" sz="1200" spc="-1" strike="noStrike">
                <a:solidFill>
                  <a:srgbClr val="000000"/>
                </a:solidFill>
                <a:latin typeface="Palatino-Roman"/>
              </a:rPr>
              <a:t> manufactured products have been given preferential treatment over those from industrial countries, concessions granted to members within a regional trading alliance, such as the EU, have not been extended to countries outside the alliance, and countries are permitted to raise barriers against member countries which they feel are trading unfai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most recent set of negotiations for the WTO began in 2001 in Doha, Qatar.  The Doha Round, which focuses on giving a boost to developing nations, has been challenging and has stalled numerous times.  One of the major sources of tension involves agricultural subsi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TO has been the subject of much criticism in the pas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A4E8-4744-43C8-A4F5-88A47CDAB0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discuss the pros and cons of global, bilateral, and regional integ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DB401-4139-4EF7-9421-D65127D81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81EE-D2D2-455F-B814-9E30405E2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160F9-8F96-454F-8A81-689D86E3A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99F99-77AC-490D-A670-6FF066EDC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926A4-1C6E-40B4-A3A8-F952C0A25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3ADCA-5BFA-4104-A29E-68A71ADEC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B2143-8CBB-408E-9B6C-522F2BF32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8854E-8D75-41B6-A6CB-976E9FCF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607A9-B41C-42AD-9706-CBC382A8C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48D8F-C56E-4097-8523-22B09F998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600D-094D-45B8-B0A0-4046499E1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F822-D024-47DA-B2ED-31FF9AB1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19AD-9234-426C-B4D4-C50003F9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6A93-8EAA-4DB9-88C1-B135F202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1ECF9-9A57-4CC3-93BC-8BF5E4A2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9B971-3E1C-40E3-AB50-9C4671666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20AC5-8CE3-4D3B-AD5E-69DDF5E70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0DC5-D762-4BE5-A8D1-9CA07DCF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03A6-1E99-4FC1-8868-19517C43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BCCDB-9D3F-4200-AED4-565E2454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86F5-9B3B-40D7-933E-FE977A6F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9E02-E556-4EB3-95C0-F44ED406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C581-F3CE-4080-839F-49AC30CC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B5EC-A7B2-4F9D-A812-40BEC2434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fld id="{BDA2972F-835F-4E28-AB97-156A2B8A3F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fld id="{47592087-9FDA-4AF5-9A95-00D76DECE4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10ADD4F-144A-4F21-9EF6-3BC377F8A7B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1AD2B3A4-A7C0-433F-A774-40C6EE2315A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Rise Of </a:t>
            </a:r>
            <a:br>
              <a:rPr sz="4400"/>
            </a:br>
            <a:r>
              <a:rPr b="0" lang="en-US" sz="4400" spc="-1" strike="noStrike">
                <a:solidFill>
                  <a:srgbClr val="6f6e4a"/>
                </a:solidFill>
                <a:latin typeface="Georgia"/>
              </a:rPr>
              <a:t>Bilateral Agreements</a:t>
            </a:r>
            <a:endParaRPr b="0" lang="en-US" sz="4400" spc="-1" strike="noStrike">
              <a:solidFill>
                <a:srgbClr val="6f6e4a"/>
              </a:solidFill>
              <a:latin typeface="Georgi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ilateral agreemen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n be between two individual countries or can involve one country dealing with a group of other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lso known a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eferential trade agreements (PTA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 trade agreements (FTA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4A307C6B-72D3-4751-AC2C-279188FA69E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a:t>
            </a:r>
            <a:endParaRPr b="0" lang="en-US" sz="4400" spc="-1" strike="noStrike">
              <a:solidFill>
                <a:srgbClr val="6f6e4a"/>
              </a:solidFill>
              <a:latin typeface="Georgi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nal trade agreement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gration confined to a region and involving more than two countrie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amples include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ropean Union (EU)</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ropean Free Trade Area (EFTA)</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rth American Free Trade Area (NAFTA)</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ion of Southeast Asian Nations (ASEA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Market of Eastern and Southern Africa (COMESA)</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EA393BA4-0E6F-4F97-B813-E8BEFB7461B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a:t>
            </a:r>
            <a:endParaRPr b="0" lang="en-US" sz="4400" spc="-1" strike="noStrike">
              <a:solidFill>
                <a:srgbClr val="6f6e4a"/>
              </a:solidFill>
              <a:latin typeface="Georgi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fine different forms of regional economic integration</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D484F939-5E1C-4C96-9CAC-ABEF403FC1D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a:t>
            </a:r>
            <a:endParaRPr b="0" lang="en-US" sz="4400" spc="-1" strike="noStrike">
              <a:solidFill>
                <a:srgbClr val="6f6e4a"/>
              </a:solidFill>
              <a:latin typeface="Georgi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jor types of economic integr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 trade area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 internal tariff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s union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 internal tariffs plus common external tariff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marke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s union</a:t>
            </a:r>
            <a:r>
              <a:rPr b="0" lang="en-US" sz="2000" spc="-1" strike="noStrike">
                <a:solidFill>
                  <a:srgbClr val="666699"/>
                </a:solidFill>
                <a:latin typeface="Verdana"/>
              </a:rPr>
              <a:t> </a:t>
            </a:r>
            <a:r>
              <a:rPr b="0" lang="en-US" sz="2400" spc="-1" strike="noStrike">
                <a:solidFill>
                  <a:srgbClr val="666699"/>
                </a:solidFill>
                <a:latin typeface="Verdana"/>
              </a:rPr>
              <a:t>plus factor mobilit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4EBC9675-9726-408B-855F-BD81A86403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ffects Of Integration</a:t>
            </a:r>
            <a:endParaRPr b="0" lang="en-US" sz="4800" spc="-1" strike="noStrike">
              <a:solidFill>
                <a:srgbClr val="6f6e4a"/>
              </a:solidFill>
              <a:latin typeface="Georgi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the static and dynamic impact of trade agreements on trade and investment flow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6E8D12B1-47BD-4FE6-8D6A-74EA605FBF8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ffects Of Integration</a:t>
            </a:r>
            <a:endParaRPr b="0" lang="en-US" sz="4800" spc="-1" strike="noStrike">
              <a:solidFill>
                <a:srgbClr val="6f6e4a"/>
              </a:solidFill>
              <a:latin typeface="Georgi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ffects of regional integr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tatic effects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ade cre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ade divers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Dynamic effe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conomies of scale</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9E46CC4-3AA1-4DB3-AA59-B614F9634A5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ffects Of Integration</a:t>
            </a:r>
            <a:endParaRPr b="0" lang="en-US" sz="4800" spc="-1" strike="noStrike">
              <a:solidFill>
                <a:srgbClr val="6f6e4a"/>
              </a:solidFill>
              <a:latin typeface="Georgi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Impact of Trade Agreement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1" name="Picture 4" descr=""/>
          <p:cNvPicPr/>
          <p:nvPr/>
        </p:nvPicPr>
        <p:blipFill>
          <a:blip r:embed="rId1"/>
          <a:stretch/>
        </p:blipFill>
        <p:spPr>
          <a:xfrm>
            <a:off x="1467000" y="1981080"/>
            <a:ext cx="621000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ED4F667F-1724-434E-9731-740A229E60F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Major Regional Trading Groups</a:t>
            </a:r>
            <a:endParaRPr b="0" lang="en-US" sz="44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compare and contrast different regional trading group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8BEB64CB-8C4B-4806-A2CE-50E61E0FE3F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uropean Union</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uropean Union (EU)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anged from the European Economic Community to the European Community to the European Un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argest and most successful regional trade group in the worl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vides free trade of goods, capital, and peop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ses common external tariff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as a common currenc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6E899788-19DB-4EA2-8902-9B2304440AD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uropean Union</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uropean Trade and Economic Integratio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74" name="Picture 4" descr=""/>
          <p:cNvPicPr/>
          <p:nvPr/>
        </p:nvPicPr>
        <p:blipFill>
          <a:blip r:embed="rId1"/>
          <a:stretch/>
        </p:blipFill>
        <p:spPr>
          <a:xfrm>
            <a:off x="814320" y="1981080"/>
            <a:ext cx="7516800" cy="42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27E830B-8542-4466-9D8B-9C5036F55DD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8</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Cross-National Cooperation and Agreement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6B98FD75-9543-4FED-990A-1CADE3848EE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uropean Union</a:t>
            </a:r>
            <a:endParaRPr b="0" lang="en-US" sz="4800" spc="-1" strike="noStrike">
              <a:solidFill>
                <a:srgbClr val="6f6e4a"/>
              </a:solidFill>
              <a:latin typeface="Georgi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ropean Commission </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vides political leadership, drafts laws, and runs the various daily programs of the EU</a:t>
            </a:r>
            <a:endParaRPr b="0" lang="en-US" sz="2400" spc="-1" strike="noStrike">
              <a:solidFill>
                <a:srgbClr val="666699"/>
              </a:solidFill>
              <a:latin typeface="Verdana"/>
            </a:endParaRPr>
          </a:p>
          <a:p>
            <a:pPr marL="343080" indent="-34308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cil of the EU </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osed of the heads of state of each member country</a:t>
            </a:r>
            <a:endParaRPr b="0" lang="en-US" sz="2400" spc="-1" strike="noStrike">
              <a:solidFill>
                <a:srgbClr val="666699"/>
              </a:solidFill>
              <a:latin typeface="Verdana"/>
            </a:endParaRPr>
          </a:p>
          <a:p>
            <a:pPr marL="343080" indent="-34308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ropean Parliament </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as legislative power, control over the budget, and is supervisor of executive decisions</a:t>
            </a:r>
            <a:endParaRPr b="0" lang="en-US" sz="2400" spc="-1" strike="noStrike">
              <a:solidFill>
                <a:srgbClr val="666699"/>
              </a:solidFill>
              <a:latin typeface="Verdana"/>
            </a:endParaRPr>
          </a:p>
          <a:p>
            <a:pPr marL="343080" indent="-34308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uropean Court of Justice </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prets and applies EU treaties</a:t>
            </a:r>
            <a:endParaRPr b="0" lang="en-US" sz="2400" spc="-1" strike="noStrike">
              <a:solidFill>
                <a:srgbClr val="66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5EE7EFC7-3B4A-4A1F-AA2D-24EB1067C73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uropean Union</a:t>
            </a:r>
            <a:endParaRPr b="0" lang="en-US" sz="4800" spc="-1" strike="noStrike">
              <a:solidFill>
                <a:srgbClr val="6f6e4a"/>
              </a:solidFill>
              <a:latin typeface="Georgi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ingle European Act</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signed to eliminate the remaining nontariff barriers to trade in Europ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Lisbon Treaty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rengthens the EU’s governance process and improves the ability of the EU to make and implement decision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reaty of Maastricht</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stered political and monetary un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euro</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8392A18C-392C-495C-8298-57287A851D4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European Union</a:t>
            </a:r>
            <a:endParaRPr b="0" lang="en-US" sz="4800" spc="-1" strike="noStrike">
              <a:solidFill>
                <a:srgbClr val="6f6e4a"/>
              </a:solidFill>
              <a:latin typeface="Georgi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doing business in the EU need to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 where to produce produ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 what their entry strategy will b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lance the commonness of the EU with national differenc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542641D7-0956-40FD-8EF9-E19F39BE150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NAFTA </a:t>
            </a:r>
            <a:endParaRPr b="0" lang="en-US" sz="4800" spc="-1" strike="noStrike">
              <a:solidFill>
                <a:srgbClr val="6f6e4a"/>
              </a:solidFill>
              <a:latin typeface="Georgi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North American Free Trade Agreement (NAFTA)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includes Canada, the U.S., and Mexico</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involves free trade in goods, services, and investments</a:t>
            </a:r>
            <a:endParaRPr b="0" lang="en-US" sz="20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includes countries of different sizes and wealth</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me U.S. trade and investment has been diverted to Mexico</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 trade area</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rules of origin</a:t>
            </a:r>
            <a:endParaRPr b="0" lang="en-US" sz="20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DE13D940-42CB-4D1B-A950-DB8C249226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NAFTA</a:t>
            </a:r>
            <a:endParaRPr b="0" lang="en-US" sz="4800" spc="-1" strike="noStrike">
              <a:solidFill>
                <a:srgbClr val="6f6e4a"/>
              </a:solidFill>
              <a:latin typeface="Georgi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nal cont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t least 50% of the net cost of most products must come from the NAFTA reg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dditional provis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orkers righ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nviron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pute resolution mechanism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85A1932-DAB2-4082-9F9D-70306ACEABE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The Americas</a:t>
            </a:r>
            <a:endParaRPr b="0" lang="en-US" sz="4400" spc="-1" strike="noStrike">
              <a:solidFill>
                <a:srgbClr val="6f6e4a"/>
              </a:solidFill>
              <a:latin typeface="Georgia"/>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re are six major regional economic groups in the America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aribbean Community (CARICO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entral American Common Market (CAC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entral American Free Trade Agreement (CAFTA –D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ndean Community (CA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outhern Common Market (MERCOSU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atin American Integration Association (LAIA)</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11F49DCD-A5D8-4330-95C6-18311681406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The Americas</a:t>
            </a:r>
            <a:endParaRPr b="0" lang="en-US" sz="44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Integration in Central America and the Caribbea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03" name="Picture 4" descr=""/>
          <p:cNvPicPr/>
          <p:nvPr/>
        </p:nvPicPr>
        <p:blipFill>
          <a:blip r:embed="rId1"/>
          <a:stretch/>
        </p:blipFill>
        <p:spPr>
          <a:xfrm>
            <a:off x="457200" y="2057400"/>
            <a:ext cx="8229600" cy="396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1AE3B78D-50FE-4E9E-AE03-1FCA925430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The Americas</a:t>
            </a:r>
            <a:endParaRPr b="0" lang="en-US" sz="4400" spc="-1" strike="noStrike">
              <a:solidFill>
                <a:srgbClr val="6f6e4a"/>
              </a:solidFill>
              <a:latin typeface="Georgi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Latin American Economic Integratio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08" name="Picture 4" descr=""/>
          <p:cNvPicPr/>
          <p:nvPr/>
        </p:nvPicPr>
        <p:blipFill>
          <a:blip r:embed="rId1"/>
          <a:stretch/>
        </p:blipFill>
        <p:spPr>
          <a:xfrm>
            <a:off x="1677960" y="1981080"/>
            <a:ext cx="578952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9270CDD2-F6C2-466F-8460-13FAFAC9AB4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Asia</a:t>
            </a:r>
            <a:endParaRPr b="0" lang="en-US" sz="4400" spc="-1" strike="noStrike">
              <a:solidFill>
                <a:srgbClr val="6f6e4a"/>
              </a:solidFill>
              <a:latin typeface="Georgia"/>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nal integration in Asia includ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Association of Southeast Asian Nations (ASEA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EAN Free Trade Area</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a:t>
            </a:r>
            <a:r>
              <a:rPr b="1" lang="en-US" sz="2800" spc="-1" strike="noStrike">
                <a:solidFill>
                  <a:srgbClr val="666699"/>
                </a:solidFill>
                <a:latin typeface="Verdana"/>
              </a:rPr>
              <a:t> Asia Pacific Economic Cooperation (APE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pen regionalis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7CCB3312-E62B-427B-A0E5-A28BA78B523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Asia</a:t>
            </a:r>
            <a:endParaRPr b="0" lang="en-US" sz="4400" spc="-1" strike="noStrike">
              <a:solidFill>
                <a:srgbClr val="6f6e4a"/>
              </a:solidFill>
              <a:latin typeface="Georgi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Association of Southeast Asian Nations</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7" name="Picture 4" descr=""/>
          <p:cNvPicPr/>
          <p:nvPr/>
        </p:nvPicPr>
        <p:blipFill>
          <a:blip r:embed="rId1"/>
          <a:stretch/>
        </p:blipFill>
        <p:spPr>
          <a:xfrm>
            <a:off x="1219320" y="1905120"/>
            <a:ext cx="667836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7C3FE2AB-0D41-4082-BA08-D89423D8A7D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identify the major characteristics and challenges of the World Trade Organization</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ros and cons of global, bilateral, and regional integration</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the static and dynamic impact of trade agreements on trade and investment flows</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fine different forms of regional economic integration</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compare and contrast different regional trading groups</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other forms of global cooperation such as the United Nations and OPEC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0D42E499-9B66-469F-B065-F501F1D3997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Africa</a:t>
            </a:r>
            <a:endParaRPr b="0" lang="en-US" sz="4400" spc="-1" strike="noStrike">
              <a:solidFill>
                <a:srgbClr val="6f6e4a"/>
              </a:solidFill>
              <a:latin typeface="Georgia"/>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ral efforts at economic integration exis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an Arab Free Trade Area (PAFTA)</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rab Leagu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Gulf Cooperation Council (GCC)</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frican Union (AU)</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7885E34D-A6FF-4677-8773-619369CEF08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Regional Economic Integration In Africa</a:t>
            </a:r>
            <a:endParaRPr b="0" lang="en-US" sz="4400" spc="-1" strike="noStrike">
              <a:solidFill>
                <a:srgbClr val="6f6e4a"/>
              </a:solidFill>
              <a:latin typeface="Georgia"/>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Regional Integration in Africa</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26" name="Picture 4" descr=""/>
          <p:cNvPicPr/>
          <p:nvPr/>
        </p:nvPicPr>
        <p:blipFill>
          <a:blip r:embed="rId1"/>
          <a:stretch/>
        </p:blipFill>
        <p:spPr>
          <a:xfrm>
            <a:off x="2286000" y="1981080"/>
            <a:ext cx="4594320" cy="426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736D704-3CFE-4A75-B76D-CF90948D36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Other Forms Of </a:t>
            </a:r>
            <a:br>
              <a:rPr sz="4400"/>
            </a:br>
            <a:r>
              <a:rPr b="0" lang="en-US" sz="4400" spc="-1" strike="noStrike">
                <a:solidFill>
                  <a:srgbClr val="6f6e4a"/>
                </a:solidFill>
                <a:latin typeface="Georgia"/>
              </a:rPr>
              <a:t>International Cooperation</a:t>
            </a:r>
            <a:endParaRPr b="0" lang="en-US" sz="44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6:</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other forms of global cooperation such as the United Nations and OPEC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ECE367CA-2EF2-460F-A5CA-B7FF4101E13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Other Forms Of </a:t>
            </a:r>
            <a:br>
              <a:rPr sz="4400"/>
            </a:br>
            <a:r>
              <a:rPr b="0" lang="en-US" sz="4400" spc="-1" strike="noStrike">
                <a:solidFill>
                  <a:srgbClr val="6f6e4a"/>
                </a:solidFill>
                <a:latin typeface="Georgia"/>
              </a:rPr>
              <a:t>International Cooperation</a:t>
            </a:r>
            <a:endParaRPr b="0" lang="en-US" sz="44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United Nations (U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stablished in 1945</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s peace and secur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CTAD</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elps developing countries participate in international trad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ongovernmental Organizations (NGO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vate, nonprofit institutions that are independent of the government</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FD1C9D8D-D0CC-42D2-8A0B-4D64B4C5D04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Commodities </a:t>
            </a:r>
            <a:br>
              <a:rPr sz="4400"/>
            </a:br>
            <a:r>
              <a:rPr b="0" lang="en-US" sz="4400" spc="-1" strike="noStrike">
                <a:solidFill>
                  <a:srgbClr val="6f6e4a"/>
                </a:solidFill>
                <a:latin typeface="Georgia"/>
              </a:rPr>
              <a:t>And The World Economy </a:t>
            </a:r>
            <a:endParaRPr b="0" lang="en-US" sz="44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moditi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aw materials or primary products that enter into trade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y commodity agreements exist to</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cuss issu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seminate inform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rove product safet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EC</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854D7696-8C63-4A87-B3C3-97C2201B3EA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Organization Of The Petroleum Exporting Countries</a:t>
            </a:r>
            <a:r>
              <a:rPr b="1" lang="en-US" sz="4400" spc="-1" strike="noStrike">
                <a:solidFill>
                  <a:srgbClr val="6f6e4a"/>
                </a:solidFill>
                <a:latin typeface="Georgia"/>
              </a:rPr>
              <a:t> </a:t>
            </a:r>
            <a:endParaRPr b="0" lang="en-US" sz="4400" spc="-1" strike="noStrike">
              <a:solidFill>
                <a:srgbClr val="6f6e4a"/>
              </a:solidFill>
              <a:latin typeface="Georgi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OPEC</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er cartel that relies on quotas to influence prices</a:t>
            </a:r>
            <a:endParaRPr b="0" lang="en-US" sz="2400" spc="-1" strike="noStrike">
              <a:solidFill>
                <a:srgbClr val="666699"/>
              </a:solidFill>
              <a:latin typeface="Verdana"/>
            </a:endParaRPr>
          </a:p>
          <a:p>
            <a:pPr lvl="2" marL="1143000" indent="-228600">
              <a:lnSpc>
                <a:spcPct val="8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stablishes production quotas for member countries</a:t>
            </a:r>
            <a:endParaRPr b="0" lang="en-US" sz="2400" spc="-1" strike="noStrike">
              <a:solidFill>
                <a:srgbClr val="666699"/>
              </a:solidFill>
              <a:latin typeface="Verdana"/>
            </a:endParaRPr>
          </a:p>
          <a:p>
            <a:pPr lvl="3" marL="1600200" indent="-228600">
              <a:lnSpc>
                <a:spcPct val="8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udi Arabia</a:t>
            </a:r>
            <a:endParaRPr b="0" lang="en-US" sz="2400" spc="-1" strike="noStrike">
              <a:solidFill>
                <a:srgbClr val="666699"/>
              </a:solidFill>
              <a:latin typeface="Verdana"/>
            </a:endParaRPr>
          </a:p>
          <a:p>
            <a:pPr lvl="2" marL="1143000" indent="-228600">
              <a:lnSpc>
                <a:spcPct val="8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es about 42% of the world’s crude and18% of its natural gas</a:t>
            </a:r>
            <a:endParaRPr b="0" lang="en-US" sz="2400" spc="-1" strike="noStrike">
              <a:solidFill>
                <a:srgbClr val="666699"/>
              </a:solidFill>
              <a:latin typeface="Verdana"/>
            </a:endParaRPr>
          </a:p>
          <a:p>
            <a:pPr lvl="1" marL="743040" indent="-28584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ownside of high prices</a:t>
            </a:r>
            <a:r>
              <a:rPr b="1"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lnSpc>
                <a:spcPct val="8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entive to invest in non-OPEC countries</a:t>
            </a:r>
            <a:endParaRPr b="0" lang="en-US" sz="2400" spc="-1" strike="noStrike">
              <a:solidFill>
                <a:srgbClr val="666699"/>
              </a:solidFill>
              <a:latin typeface="Verdana"/>
            </a:endParaRPr>
          </a:p>
          <a:p>
            <a:pPr lvl="2" marL="1143000" indent="-228600">
              <a:lnSpc>
                <a:spcPct val="8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lancing social, political, and economic objectiv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9EB34CD9-DDB5-4A74-9447-0674C7B734F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Future: Regional Integration And The WTO </a:t>
            </a:r>
            <a:endParaRPr b="0" lang="en-US" sz="4400" spc="-1" strike="noStrike">
              <a:solidFill>
                <a:srgbClr val="6f6e4a"/>
              </a:solidFill>
              <a:latin typeface="Georgia"/>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gional integration could help the WTO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ionalism can lead to liberalization of issues not covered by the WTO</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ionalism is more flexib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ional deals lock in liberaliz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8A3824A0-DB69-4D59-B195-40B41737C35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50"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2065B8BC-81D0-4E93-82B0-7DC1E8B51C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conomic integr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political and monetary agreements among nations and world regions in which preference is given to member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ilateral integr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gional integr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lobal integr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544A8BBA-9603-443F-8278-C761CE32D56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World Trade Organization</a:t>
            </a:r>
            <a:endParaRPr b="0" lang="en-US" sz="44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identify the major characteristics and challenges of the World Trade Organization</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64E8E2DD-4140-48B5-8239-7F828680BDA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World Trade Organization</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World Trade Organization (WTO)</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major body for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ciprocal trade negotiation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forcement of trade agreement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eneral Agreement on Tariffs and Trade (GATT)</a:t>
            </a:r>
            <a:r>
              <a:rPr b="0"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71874F7A-913B-4FB4-A0CF-56B6C4D76D7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GATT: Predecessor to the WTO</a:t>
            </a:r>
            <a:endParaRPr b="0" lang="en-US" sz="44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AT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med in 1947 to abolish quotas and reduce tariff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ost favored nation (MFN) claus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de without discrimina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ucceeded by WTO in 1995</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8D826E5B-57B0-493D-8AA6-8FD3872A042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at Does The WTO Do?</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TO</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inues the MFN clause of GAT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vides a mechanism for dispute settlemen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oha Round</a:t>
            </a:r>
            <a:endParaRPr b="0" lang="en-US" sz="2400" spc="-1" strike="noStrike">
              <a:solidFill>
                <a:srgbClr val="666699"/>
              </a:solidFill>
              <a:latin typeface="Verdana"/>
            </a:endParaRPr>
          </a:p>
          <a:p>
            <a:pPr lvl="3" marL="16002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gricultural subsid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riticized for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iling to pay enough attention to labor and environmental concer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dermining global divers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nefitting rich at the expense of the poor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a:t>
            </a:r>
            <a:fld id="{B38AD963-2A68-4A2D-8E1A-E8EC67E3C7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Rise Of </a:t>
            </a:r>
            <a:br>
              <a:rPr sz="4400"/>
            </a:br>
            <a:r>
              <a:rPr b="0" lang="en-US" sz="4400" spc="-1" strike="noStrike">
                <a:solidFill>
                  <a:srgbClr val="6f6e4a"/>
                </a:solidFill>
                <a:latin typeface="Georgia"/>
              </a:rPr>
              <a:t>Bilateral Agreements </a:t>
            </a:r>
            <a:endParaRPr b="0" lang="en-US" sz="4400" spc="-1" strike="noStrike">
              <a:solidFill>
                <a:srgbClr val="6f6e4a"/>
              </a:solidFill>
              <a:latin typeface="Georgi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ros and cons of global, bilateral, and regional integr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8:41:29Z</dcterms:created>
  <dc:creator>Veronica</dc:creator>
  <dc:description/>
  <dc:language>en-US</dc:language>
  <cp:lastModifiedBy>Mike</cp:lastModifiedBy>
  <dcterms:modified xsi:type="dcterms:W3CDTF">2014-01-07T14:35:41Z</dcterms:modified>
  <cp:revision>12</cp:revision>
  <dc:subject/>
  <dc:title>Slide 1</dc:title>
</cp:coreProperties>
</file>