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6366-0B50-46FF-B7BF-620D86C5CA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E3BA-6B4D-4FE0-9F85-F9B50FBEE7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Business Environments and Operations 14e by Daniels, Radebaugh, and Sulli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3F25-83E7-4748-A7E1-17ED155CB77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2: To profile the features and functions of the value chai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74B8-AB5D-410B-9CDB-71BCDA9F82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which strategy a firms uses, cost leadership or differentiation, it can be helpful to think of the value creation process using the value chain. The value chain separates the notion of “creating value” into a series of discrete, sequential activitie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BF8D-5A0B-467B-8E09-ACE5C59695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different primary and support activities in the value chai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C24A-C5F6-4340-BA3A-DAC176C2D5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provides details on the different activities that make up the primary and support activities in the value cha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54BE-8333-4CCD-97B9-A5C1D4F7073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3: To assess how managers configure and coordinate a value ch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A308-CD88-4E57-ACBE-1E0DC74BC9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national companies have to efficiently distribute value activities and link them effectively.  This can be done using a concentrated strategy or using a dispersed approach.  The goal is to put value activities in the optimal location in the world to exploit </a:t>
            </a:r>
            <a:r>
              <a:rPr b="1" lang="en-US" sz="1200" spc="-1" strike="noStrike">
                <a:solidFill>
                  <a:srgbClr val="000000"/>
                </a:solidFill>
                <a:latin typeface="Arial"/>
              </a:rPr>
              <a:t>location economies </a:t>
            </a:r>
            <a:r>
              <a:rPr b="0" lang="en-US" sz="1200" spc="-1" strike="noStrike">
                <a:solidFill>
                  <a:srgbClr val="000000"/>
                </a:solidFill>
                <a:latin typeface="Arial"/>
              </a:rPr>
              <a:t> - the economies that arise from performing a value activity in the most productive location or locations given prevailing economic, political, legal, and cultural condi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5CB0-11A5-4117-86B7-294CAAE460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luences the configuration of the value chain?  Several things do including the quality of the business environment, innovation context, resource costs, logistics, digitization, and scale econom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environment can affect the ease of doing business.  Generally, it easiest to do business in high income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vation context is important because going forward, the pace of innovation accelerates.  In fact, the singularity principle suggests that the change will be so fast that it will seem to be expanding at infinit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costs like wage rates, worker productivity, resource availability and so on can also affect the configuration of the value ch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s refers to how companies obtain, produce, and exchange material and services in the proper place and in proper quantities for the proper activity.  Companies try to minimize the expense associated with log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ization involves converting an analog product into a string of zeros and ones. Digital activities can be located just about anywhere, and in fact today it’s allowing activities to be dispersed that had always been concentrated in a few locations.  X-rays can now be taken in one country and read in another.  Similarly, legal services can be outsourced to optimal l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firms want to gain </a:t>
            </a:r>
            <a:r>
              <a:rPr b="1" lang="en-US" sz="1200" spc="-1" strike="noStrike">
                <a:solidFill>
                  <a:srgbClr val="000000"/>
                </a:solidFill>
                <a:latin typeface="Arial"/>
              </a:rPr>
              <a:t>economies of scale</a:t>
            </a:r>
            <a:r>
              <a:rPr b="0" lang="en-US" sz="1200" spc="-1" strike="noStrike">
                <a:solidFill>
                  <a:srgbClr val="000000"/>
                </a:solidFill>
                <a:latin typeface="Arial"/>
              </a:rPr>
              <a:t> where possible.  This often requires companies to concentrate the value chai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0E26-0E64-40C8-B228-BE0EC91713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firm has worked out the best configuration of the value chain, it must work on linking the various activities.  This is known as coord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factors influence coordination.  Operationally, companies must deal with different languages, time zones, and so on as they pull together the different parts of the global value chain.  While still quite challenging, improvements in communication have made this task easier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s core competencies also affect coordination.  Keep in mind that this special ability, outlook, or skill can emerge from different areas in the firm.  For example, a firm’s core competencies may be a result of product development or employee productivity.  Similarly, a firm may have core competencies in manufacturing expertise, marketing, or lead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t’s important to consider the role of subsidiaries.  The Internet and the real time connectivity it provides has changed the nature of this process. Today, information can flow easily between subsidiaries and the different parts of the value chain allowing for much greater and richer coordination.   Firms have even embraced the power of social networks as a means of improving coordinat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7707-EFD9-4616-8F4F-6FA0F3AAF85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value chain is configured and coordinated, it’s time to consider change.  Managers need to view the value chain and its configuration as a fluid concept – one that could change at any point depending on the factors that influence it.   Some managers are able to anticipate change and adapt accordingly.  For others, it’s an ongoing strugg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43AC-5767-4EF0-9E21-0E747E94323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4: To explain global integration and local responsivenes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BCEF-BCE4-40ED-8429-0D6DDB46C9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1: The Strategy of International Busin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7739-F981-48D9-913D-E7D58FD2FEE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irms develop their strategies they face two conflicting pressures.  On one hand they have pressure to standardize and concentrate configuration.  On the other hand, they face pressure to disperse configuration and adapt coordinatio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2E63-FC6F-4426-ADC2-7BB536E974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are strong pressures for global integration, firms will need to concentrate configuration and standardize coordination.  The globalization of markets along with the efficiency gains that come with standardization are two main drivers of global integration.  Standardization is attractive because of the cost savings it creates for both the firm and the consum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7269-5B6E-41B4-81B6-497F7C5DD5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the benefits of global integration, firms may find that there is considerable pressure to be locally responsive.  A major reason to be locally responsive is the need to respond to consumer preferences. Consumers may be willing to pay a premium to get what they really want.  In some case, local government policies dictate certain strategie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B7D7-BA7C-4A0F-A883-E083D6B8C1E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how different industries fall in the integration/responsiveness grid.  Managers can use the IR grid to determine strategy based on the different pressures they are facing.</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236F-1171-454E-B75F-A6064DCFA7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5: To profile the types of strategies firms use in international busin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38E3-7536-484B-95F8-1A0DCE9A09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generic strategies used by multinational companies: the international, multidomestic, global, and transnational strategi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F5AE-13D1-4464-AF5B-104A652F55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ational strategy works well when the multinational has a core competency that foreign rivals lack, and pressures for local responsiveness and for global integration are both low.  However, because key aspects of the value chain are centralized at headquarters there is little input from foreign markets and opportunities may be misse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90DB-A280-4C77-9AA7-8EBE1817E8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ultidomestic strategy makes sense when pressures for local responsiveness are high, and those for global integration are low.  Because it involves adapting value added activities to local market conditions, it is a costly strategy to implemen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A992-45AB-41AD-9A08-FC1DF35AEC9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 strategy works well when worldwide standardization is possible.  This is usually the case for commodities, for example.  However, keep in mind that because it emphasizes cost reductions is does not allow for local responsiveness, a situation that can be problematic if market conditions chang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0090F-D6B7-4F4E-AEBF-6B90B2A40BC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following a transnational strategy balance the conflicting pressures for local responsiveness with those for global integration.  They emphasize global learning and the diffusion of knowledge throughout the organization.  Keep in mind that while this strategy seems to allow firms to get the best of both worlds, it’s complicated and difficult to implemen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2B02-702D-4D1F-BE70-75B0FCEF9A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Objectives for this chapter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valuate industry structure, firm strategy, and value cre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file the features and functions of the value ch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how managers configure and coordinate a value ch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lain global integration and local responsive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file the types of strategies firms use in international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3AD0-4B33-4F27-A907-129C6AC14E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rategies will firms follow in the future?  No one really knows.  Some people think the multinational company will continue to evolve.  This new, globally integrated company will design its strategy, configure its activities, and coordinate its processes to connect everything, everywhere, 24/7.  Others think that this new version of the multinational will emerge, but on a smaller scale. These new Micro-Multinationals go global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Glorecalization has been used to describe another type of firm – one that balances global and local demands, but at the same time organizes the value chain on a regional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Cybercorp refers to a firm that operates in a world where Internet technologies define bounda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22FA-D966-4E2F-AAAC-CCE92017E11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098F-6B45-4D38-9888-E97912ED5FE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how a firm’s strategy is influenced by outside forces.  In particular, the environment for multinational companies is shaped by cultural, political, legal, economic, trade, monetary, governmental, and institutional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for managers is to design a strategy that allows the company to compete successfully in international markets and sustain its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B195-D4B3-4D5E-8250-B195312E7F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1: To evaluate industry structure, firm strategy, and value cre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EB6C-270F-46F5-8155-6A31D8EEDB2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ustry is composed of those companies engaged in a particular type of enterprise.   How an industry is structured influences the profitability of companies, particularly in situations where there is perfect competition. Industry structure involves the relationships among suppliers of inputs, buyers of outputs, substitute products, potential new entrants, and rivalry among competing firm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57E7-6CEB-44CA-BA2C-AD8CA69B51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ndustry structure change?  Yes, many things can prompt a change including new products, new firms, new markets, and new managers.  If changes are significant, firms may have to reassess their strateg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76C8A-16E1-4C8A-9EA2-595BDA1868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ect competition presumes many buyers and sellers such that no individual affects price or quantity, there is perfect information for both producers and consumers, that there are few, if any, barriers to entry and exit, that full mobility of resources exists, and  that firms and buyers have perfect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perfect markets exist?  Well, most industries aren’t perfect, and companies typically have different levels of profitability.  In fact, industries that are most attractive typically have imperfect competition that allows companies to seek above-average profits.  It is in these industries that the power of innovative executives becomes so apparent as they devise strategies that create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 can help managers assess a company’s position, identify where it should go, and determine how to get ther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4FA3-F186-407C-A880-3984238F78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create value using either a cost leadership strategy or a differentiation strategy.  The former reduces costs below those of competitors for a given level of quality, while the latter involves developing products that customers value and that rivals find hard, if not impossible, to match or 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think about the two approaches is that a differentiation strategy focuses on innovation while a cost leadership strategy emphasizes efficienc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1E8AC-B4E5-4FC4-B842-166A35B69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E0404-C086-4B4D-97D5-90E88C6AB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FDC86-4522-44A8-A22E-8EA45922C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13C88-4200-4904-9911-D61190DCC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B49F7-953C-42D5-A842-3D210DFD5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B99D4-3FEB-4A22-B4CA-156908898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C7B48-A419-4580-8DF5-483042B7D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7C1A8-3A79-4A93-B61E-E7BD5608F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9B681-E41E-474A-B1D5-939719621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FC78B-F64B-4177-A61A-82AB554D9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EDFDB-FF5E-4682-AAAD-8958EC533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E3110-4587-4A19-AB08-55A26EDA4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82BCB-8837-4DCB-8FE3-3E419DFB2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A6346-40AF-4A65-B4F3-C04103E61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EA1CF-CF33-4D60-B89B-84BAB87FC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83B25-4569-4F64-91D2-9BF23F545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191CA-0BE7-4988-AC36-EDB994470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CD079-0031-4015-A4E4-52FF5B633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4CFCA-41E2-4955-88FA-0B024B4FD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06BB5-7A37-4831-BDE0-830E80853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A818B-066D-446E-8EED-AB659A418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D9C5-40CA-4CDD-8880-9A7AAD33A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48B61-13D9-4A9D-BF3D-BF7CACBDF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5B5EF-3056-4242-AC9A-B70B0A917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fld id="{071E0B51-569B-41E6-891C-9A36683BA2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fld id="{CA51CD1C-D97E-454A-A149-F6A6062678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4E7412C1-AFB0-4FC3-9441-0919BF375C8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International Business</a:t>
            </a:r>
            <a:br>
              <a:rPr sz="5400"/>
            </a:br>
            <a:r>
              <a:rPr b="0" lang="en-US" sz="4400" spc="-1" strike="noStrike">
                <a:solidFill>
                  <a:srgbClr val="666699"/>
                </a:solidFill>
                <a:latin typeface="Georgia"/>
              </a:rPr>
              <a:t>Environments &amp; Operations</a:t>
            </a:r>
            <a:endParaRPr b="0" lang="en-US" sz="44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14e</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Daniels </a:t>
            </a:r>
            <a:r>
              <a:rPr b="0" lang="en-US" sz="2400" spc="-1" strike="noStrike">
                <a:solidFill>
                  <a:srgbClr val="666699"/>
                </a:solidFill>
                <a:latin typeface="Verdana"/>
              </a:rPr>
              <a:t>●</a:t>
            </a:r>
            <a:r>
              <a:rPr b="0" lang="en-US" sz="3000" spc="-1" strike="noStrike">
                <a:solidFill>
                  <a:srgbClr val="6f6e4a"/>
                </a:solidFill>
                <a:latin typeface="Verdana"/>
              </a:rPr>
              <a:t> Radebaugh </a:t>
            </a:r>
            <a:r>
              <a:rPr b="0" lang="en-US" sz="2400" spc="-1" strike="noStrike">
                <a:solidFill>
                  <a:srgbClr val="666699"/>
                </a:solidFill>
                <a:latin typeface="Verdana"/>
              </a:rPr>
              <a:t>●</a:t>
            </a:r>
            <a:r>
              <a:rPr b="0" lang="en-US" sz="3000" spc="-1" strike="noStrike">
                <a:solidFill>
                  <a:srgbClr val="6f6e4a"/>
                </a:solidFill>
                <a:latin typeface="Verdana"/>
              </a:rPr>
              <a:t> Sullivan</a:t>
            </a:r>
            <a:endParaRPr b="0" lang="en-US" sz="3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2521A8D3-8683-4347-8FDC-225B528CA77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Firm as a Value Chain</a:t>
            </a:r>
            <a:endParaRPr b="0" lang="en-US" sz="4800" spc="-1" strike="noStrike">
              <a:solidFill>
                <a:srgbClr val="6f6e4a"/>
              </a:solidFill>
              <a:latin typeface="Georgi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2: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profile the features and functions of the value chain</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12DA6FD3-63AC-4F9A-A258-1E869AD3FA9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Firm as a Value Chain</a:t>
            </a:r>
            <a:endParaRPr b="0" lang="en-US" sz="4800" spc="-1" strike="noStrike">
              <a:solidFill>
                <a:srgbClr val="6f6e4a"/>
              </a:solidFill>
              <a:latin typeface="Georgi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a:t>
            </a:r>
            <a:r>
              <a:rPr b="1" lang="en-US" sz="2800" spc="-1" strike="noStrike">
                <a:solidFill>
                  <a:srgbClr val="666699"/>
                </a:solidFill>
                <a:latin typeface="Verdana"/>
              </a:rPr>
              <a:t>value chain</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set of linked activities the company performs to design, produce, market, distribute, and support a product</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value chain consists of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Primary activities</a:t>
            </a:r>
            <a:r>
              <a:rPr b="0" lang="en-US" sz="2400" spc="-1" strike="noStrike">
                <a:solidFill>
                  <a:srgbClr val="666699"/>
                </a:solidFill>
                <a:latin typeface="Verdana"/>
              </a:rPr>
              <a:t>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sign, make, sell, and deliver the produc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Support activities</a:t>
            </a:r>
            <a:r>
              <a:rPr b="0" lang="en-US" sz="2400" spc="-1" strike="noStrike">
                <a:solidFill>
                  <a:srgbClr val="666699"/>
                </a:solidFill>
                <a:latin typeface="Verdana"/>
              </a:rPr>
              <a:t>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mplement primary activities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4D9A1FFC-3032-4832-B6FA-7EB3FA4CB40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Firm as a Value Chain</a:t>
            </a:r>
            <a:endParaRPr b="0" lang="en-US" sz="4800" spc="-1" strike="noStrike">
              <a:solidFill>
                <a:srgbClr val="6f6e4a"/>
              </a:solidFill>
              <a:latin typeface="Georgi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Primary and Support Activitie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46" name="Picture 5" descr=""/>
          <p:cNvPicPr/>
          <p:nvPr/>
        </p:nvPicPr>
        <p:blipFill>
          <a:blip r:embed="rId1"/>
          <a:stretch/>
        </p:blipFill>
        <p:spPr>
          <a:xfrm>
            <a:off x="457200" y="2133720"/>
            <a:ext cx="8229600" cy="373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44B15273-CC82-47DC-BD51-8266408BE45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Firm as a Value Chain</a:t>
            </a:r>
            <a:endParaRPr b="0" lang="en-US" sz="4800" spc="-1" strike="noStrike">
              <a:solidFill>
                <a:srgbClr val="6f6e4a"/>
              </a:solidFill>
              <a:latin typeface="Georgi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Primary and Support Activities of the Value Chain</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51" name="Picture 5" descr=""/>
          <p:cNvPicPr/>
          <p:nvPr/>
        </p:nvPicPr>
        <p:blipFill>
          <a:blip r:embed="rId1"/>
          <a:stretch/>
        </p:blipFill>
        <p:spPr>
          <a:xfrm>
            <a:off x="1905120" y="1981080"/>
            <a:ext cx="5475240" cy="426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8CEBD856-9EB0-44BB-9AF1-2AB5A4B8679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anaging the Value Chain</a:t>
            </a:r>
            <a:endParaRPr b="0" lang="en-US" sz="4800" spc="-1" strike="noStrike">
              <a:solidFill>
                <a:srgbClr val="6f6e4a"/>
              </a:solidFill>
              <a:latin typeface="Georgi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3: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assess how managers configure and coordinate a value chain</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B156C7C8-652F-4822-933D-33D4E14C330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anaging the Value Chain</a:t>
            </a:r>
            <a:endParaRPr b="0" lang="en-US" sz="4800" spc="-1" strike="noStrike">
              <a:solidFill>
                <a:srgbClr val="6f6e4a"/>
              </a:solidFill>
              <a:latin typeface="Georgia"/>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onfigurat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stributing value chain activities around the world</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concentrated</a:t>
            </a:r>
            <a:r>
              <a:rPr b="0" lang="en-US" sz="2400" spc="-1" strike="noStrike">
                <a:solidFill>
                  <a:srgbClr val="666699"/>
                </a:solidFill>
                <a:latin typeface="Verdana"/>
              </a:rPr>
              <a:t> </a:t>
            </a:r>
            <a:endParaRPr b="0" lang="en-US" sz="2400" spc="-1" strike="noStrike">
              <a:solidFill>
                <a:srgbClr val="666699"/>
              </a:solidFill>
              <a:latin typeface="Verdana"/>
            </a:endParaRPr>
          </a:p>
          <a:p>
            <a:pPr lvl="3" marL="16002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utting all value chain activities in one loca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dispersed</a:t>
            </a:r>
            <a:r>
              <a:rPr b="0" lang="en-US" sz="2400" spc="-1" strike="noStrike">
                <a:solidFill>
                  <a:srgbClr val="666699"/>
                </a:solidFill>
                <a:latin typeface="Verdana"/>
              </a:rPr>
              <a:t> </a:t>
            </a:r>
            <a:endParaRPr b="0" lang="en-US" sz="2400" spc="-1" strike="noStrike">
              <a:solidFill>
                <a:srgbClr val="666699"/>
              </a:solidFill>
              <a:latin typeface="Verdana"/>
            </a:endParaRPr>
          </a:p>
          <a:p>
            <a:pPr lvl="3" marL="16002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erforming different value chain activities in different locations</a:t>
            </a:r>
            <a:endParaRPr b="0" lang="en-US" sz="2400" spc="-1" strike="noStrike">
              <a:solidFill>
                <a:srgbClr val="666699"/>
              </a:solidFill>
              <a:latin typeface="Verdana"/>
            </a:endParaRPr>
          </a:p>
          <a:p>
            <a:pPr lvl="4" marL="2057400" indent="-228600">
              <a:spcBef>
                <a:spcPts val="601"/>
              </a:spcBef>
              <a:buClr>
                <a:srgbClr val="666699"/>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location economies</a:t>
            </a:r>
            <a:endParaRPr b="0" lang="en-US" sz="2400" spc="-1" strike="noStrike">
              <a:solidFill>
                <a:srgbClr val="66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400FC441-F786-426A-B202-23E613A706F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anaging the Value Chain</a:t>
            </a:r>
            <a:endParaRPr b="0" lang="en-US" sz="4800" spc="-1" strike="noStrike">
              <a:solidFill>
                <a:srgbClr val="6f6e4a"/>
              </a:solidFill>
              <a:latin typeface="Georgia"/>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en configuring the value, consider</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business environ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novation contex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source cos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gistic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Digitiza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cale economie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5E9700EB-AB9D-417D-8656-D24379EF62A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anaging the Value Chain</a:t>
            </a:r>
            <a:endParaRPr b="0" lang="en-US" sz="4800" spc="-1" strike="noStrike">
              <a:solidFill>
                <a:srgbClr val="6f6e4a"/>
              </a:solidFill>
              <a:latin typeface="Georgia"/>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oordination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inking the value chain activities</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actors that influence coordination</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perational obstacle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Core competencies</a:t>
            </a:r>
            <a:r>
              <a:rPr b="0" lang="en-US" sz="2400" spc="-1" strike="noStrike">
                <a:solidFill>
                  <a:srgbClr val="666699"/>
                </a:solidFill>
                <a:latin typeface="Verdana"/>
              </a:rPr>
              <a:t> </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pecial outlook, skill, capability, or technology that runs through the firm’s operations, threading disconnected activities into an integrated value chain</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ubsidiary network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ocial network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E6F14BE7-52F1-4FEE-9753-842BB4DED1F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hange and the Value Chain</a:t>
            </a:r>
            <a:endParaRPr b="0" lang="en-US" sz="4800" spc="-1" strike="noStrike">
              <a:solidFill>
                <a:srgbClr val="6f6e4a"/>
              </a:solidFill>
              <a:latin typeface="Georgia"/>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configuration and coordination of a value chain responds to changes in customers, competitors, industries, and environment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ven a well configured and coordinated value chain can become obsolete</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o, designing and delivering a strategy should be an ongoing proces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6E96B073-F2F6-4E2E-8D7C-DDEBF496EDF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Global Integration vs. </a:t>
            </a:r>
            <a:br>
              <a:rPr sz="4400"/>
            </a:br>
            <a:r>
              <a:rPr b="0" lang="en-US" sz="4400" spc="-1" strike="noStrike">
                <a:solidFill>
                  <a:srgbClr val="6f6e4a"/>
                </a:solidFill>
                <a:latin typeface="Georgia"/>
              </a:rPr>
              <a:t>Local Responsiveness</a:t>
            </a:r>
            <a:endParaRPr b="0" lang="en-US" sz="4400" spc="-1" strike="noStrike">
              <a:solidFill>
                <a:srgbClr val="6f6e4a"/>
              </a:solidFill>
              <a:latin typeface="Georgi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1" lang="en-US" sz="2800" spc="-1" strike="noStrike">
                <a:solidFill>
                  <a:srgbClr val="666699"/>
                </a:solidFill>
                <a:latin typeface="Verdana"/>
              </a:rPr>
              <a:t>Learning Objective 4:</a:t>
            </a:r>
            <a:r>
              <a:rPr b="0" lang="en-US" sz="2800" spc="-1" strike="noStrike">
                <a:solidFill>
                  <a:srgbClr val="666699"/>
                </a:solidFill>
                <a:latin typeface="Verdana"/>
              </a:rPr>
              <a:t>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explain global integration and local responsiveness</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2"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0FD4443E-79F4-434C-821D-8630E9892C5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11</a:t>
            </a:r>
            <a:endParaRPr b="0" lang="en-US" sz="6100" spc="-1" strike="noStrike">
              <a:solidFill>
                <a:srgbClr val="6f6e4a"/>
              </a:solidFill>
              <a:latin typeface="Georgia"/>
            </a:endParaRPr>
          </a:p>
        </p:txBody>
      </p:sp>
      <p:sp>
        <p:nvSpPr>
          <p:cNvPr id="104"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The Strategy of International Business</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E71E2D2B-074D-44D2-B80E-27E210C58B7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Global Integration vs. </a:t>
            </a:r>
            <a:br>
              <a:rPr sz="4400"/>
            </a:br>
            <a:r>
              <a:rPr b="0" lang="en-US" sz="4400" spc="-1" strike="noStrike">
                <a:solidFill>
                  <a:srgbClr val="6f6e4a"/>
                </a:solidFill>
                <a:latin typeface="Georgia"/>
              </a:rPr>
              <a:t>Local Responsiveness</a:t>
            </a:r>
            <a:endParaRPr b="0" lang="en-US" sz="4400" spc="-1" strike="noStrike">
              <a:solidFill>
                <a:srgbClr val="6f6e4a"/>
              </a:solidFill>
              <a:latin typeface="Georgia"/>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rms face two conflicting pressures: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essures for </a:t>
            </a:r>
            <a:r>
              <a:rPr b="1" lang="en-US" sz="2800" spc="-1" strike="noStrike">
                <a:solidFill>
                  <a:srgbClr val="666699"/>
                </a:solidFill>
                <a:latin typeface="Verdana"/>
              </a:rPr>
              <a:t>global integrat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process of combining differentiated parts into a standardized whol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ximize efficiency</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essures for </a:t>
            </a:r>
            <a:r>
              <a:rPr b="1" lang="en-US" sz="2800" spc="-1" strike="noStrike">
                <a:solidFill>
                  <a:srgbClr val="666699"/>
                </a:solidFill>
                <a:latin typeface="Verdana"/>
              </a:rPr>
              <a:t>local responsivenes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process of disaggregating a standardized whole into differentiated par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ptimize effectiveness</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2E3758D1-4761-4A84-94FF-F43DC650E4D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Pressures for Global Integration</a:t>
            </a:r>
            <a:endParaRPr b="0" lang="en-US" sz="4400" spc="-1" strike="noStrike">
              <a:solidFill>
                <a:srgbClr val="6f6e4a"/>
              </a:solidFill>
              <a:latin typeface="Georgia"/>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rivers of global integratio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globalization of market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echnology helps standardize consumer preferenc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lobal products have become popular </a:t>
            </a:r>
            <a:endParaRPr b="0" lang="en-US" sz="2400" spc="-1" strike="noStrike">
              <a:solidFill>
                <a:srgbClr val="666699"/>
              </a:solidFill>
              <a:latin typeface="Verdana"/>
            </a:endParaRPr>
          </a:p>
          <a:p>
            <a:pPr lvl="3" marL="16002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llows for standardization of product desig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efficiency gains of standardiza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cation, scale, and learning effect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TO supports global standards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3EB72A12-4571-47CA-9804-2832F36D443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Pressures for Local Responsiveness</a:t>
            </a:r>
            <a:endParaRPr b="0" lang="en-US" sz="4400" spc="-1" strike="noStrike">
              <a:solidFill>
                <a:srgbClr val="6f6e4a"/>
              </a:solidFill>
              <a:latin typeface="Georgia"/>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essure for local responsiveness is driven by</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sumer divergence</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ultural predisposi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storical legacy</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nationalism</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ost government polici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iscal, monetary, and business regulation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303F8E36-60F0-4AB2-8B95-DF498F751EA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en Pressures Interact</a:t>
            </a:r>
            <a:endParaRPr b="0" lang="en-US" sz="4800" spc="-1" strike="noStrike">
              <a:solidFill>
                <a:srgbClr val="6f6e4a"/>
              </a:solidFill>
              <a:latin typeface="Georgia"/>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Integration/Responsiveness (I/R) Grid</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92" name="Picture 5" descr=""/>
          <p:cNvPicPr/>
          <p:nvPr/>
        </p:nvPicPr>
        <p:blipFill>
          <a:blip r:embed="rId1"/>
          <a:stretch/>
        </p:blipFill>
        <p:spPr>
          <a:xfrm>
            <a:off x="1201680" y="1981080"/>
            <a:ext cx="674064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B98EA341-E8ED-4499-801C-0956853BA2F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ypes of Strategy</a:t>
            </a:r>
            <a:endParaRPr b="0" lang="en-US" sz="4800" spc="-1" strike="noStrike">
              <a:solidFill>
                <a:srgbClr val="6f6e4a"/>
              </a:solidFill>
              <a:latin typeface="Georgia"/>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5: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profile the types of strategies firms use in international busines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49EA5324-3DA5-4A2B-8DDC-27391276B13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ypes of Strategy</a:t>
            </a:r>
            <a:endParaRPr b="0" lang="en-US" sz="4800" spc="-1" strike="noStrike">
              <a:solidFill>
                <a:srgbClr val="6f6e4a"/>
              </a:solidFill>
              <a:latin typeface="Georgia"/>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Characteristics of the Strategy Type Used by MNEs</a:t>
            </a:r>
            <a:r>
              <a:rPr b="0" lang="en-US" sz="2800" spc="-1" strike="noStrike">
                <a:solidFill>
                  <a:srgbClr val="666699"/>
                </a:solidFill>
                <a:latin typeface="Verdana"/>
              </a:rPr>
              <a:t> </a:t>
            </a:r>
            <a:endParaRPr b="0" lang="en-US" sz="2800" spc="-1" strike="noStrike">
              <a:solidFill>
                <a:srgbClr val="66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pic>
        <p:nvPicPr>
          <p:cNvPr id="201" name="Picture 5" descr=""/>
          <p:cNvPicPr/>
          <p:nvPr/>
        </p:nvPicPr>
        <p:blipFill>
          <a:blip r:embed="rId1"/>
          <a:stretch/>
        </p:blipFill>
        <p:spPr>
          <a:xfrm>
            <a:off x="766800" y="2755800"/>
            <a:ext cx="7608960" cy="134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E8AA9FA8-D37E-48F8-9FB5-57D806F4495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ernational Strategy</a:t>
            </a:r>
            <a:endParaRPr b="0" lang="en-US" sz="4800" spc="-1" strike="noStrike">
              <a:solidFill>
                <a:srgbClr val="6f6e4a"/>
              </a:solidFill>
              <a:latin typeface="Georgia"/>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ternational strategy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verage a company’s core competencies into foreign marke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ritical elements of the value chain are  centralized at headquarter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strategy works well whe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firm has core competencies that foreign rivals lack</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re is low pressure for global integration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re is low pressure for local responsiveness</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E99A0AF2-09F2-48B7-AC1D-27BFD86D67F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ultidomestic Strategy</a:t>
            </a:r>
            <a:endParaRPr b="0" lang="en-US" sz="4800" spc="-1" strike="noStrike">
              <a:solidFill>
                <a:srgbClr val="6f6e4a"/>
              </a:solidFill>
              <a:latin typeface="Georgia"/>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Multidomestic strategy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mphasizes responsiveness to the unique circumstances that prevail in a country’s marke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value added activities are adapted to local market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strategy works well whe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re is high pressure for local responsivenes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re is low pressure for global integration</a:t>
            </a:r>
            <a:endParaRPr b="0" lang="en-US" sz="24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8D5B7358-766B-4EA4-87FC-0FC80B9F3F3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Global Strategy</a:t>
            </a:r>
            <a:endParaRPr b="0" lang="en-US" sz="4800" spc="-1" strike="noStrike">
              <a:solidFill>
                <a:srgbClr val="6f6e4a"/>
              </a:solidFill>
              <a:latin typeface="Georgia"/>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lobal strategy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ke standardized products that are marketed with little adaptation to local condition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xploit location economies and capture scale economies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strategy works well whe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MNE is the cost leader</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re is low pressure for local responsivenes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re is high pressure for global integration</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9B64CC96-03F3-4515-8D9F-2FFFF026C0C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ransnational Strategy</a:t>
            </a:r>
            <a:endParaRPr b="0" lang="en-US" sz="4800" spc="-1" strike="noStrike">
              <a:solidFill>
                <a:srgbClr val="6f6e4a"/>
              </a:solidFill>
              <a:latin typeface="Georgia"/>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Transnational strategy </a:t>
            </a:r>
            <a:r>
              <a:rPr b="0" lang="en-US" sz="2800" spc="-1" strike="noStrike">
                <a:solidFill>
                  <a:srgbClr val="666699"/>
                </a:solidFill>
                <a:latin typeface="Verdana"/>
              </a:rPr>
              <a:t>simultaneously leverages core competencies worldwide, reduces costs by exploiting location economics, and adapts to local condition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strategy works well whe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lobal learning and knowledge flows are emphasized</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re is high pressure for local responsivenes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re is high pressure for global integration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0893D542-493D-4DC2-9770-14D4B45727C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evaluate industry structure, firm strategy, and value creation</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profile the features and functions of the value chain</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assess how managers configure and coordinate a value chain</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explain global integration and local responsiveness</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profile the types of strategies firms use in international business</a:t>
            </a:r>
            <a:endParaRPr b="0" lang="en-US" sz="28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E526BAC3-22AC-485A-AD54-30570D63CAC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What’s New in the World of Strategy Types? </a:t>
            </a:r>
            <a:endParaRPr b="0" lang="en-US" sz="4400" spc="-1" strike="noStrike">
              <a:solidFill>
                <a:srgbClr val="6f6e4a"/>
              </a:solidFill>
              <a:latin typeface="Georgia"/>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at types of strategies might firms follow in the futur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volution of the Multinational Compan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Metanational</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Micro-Multinational</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lorecaliza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Cybercorp</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5F6D23C1-39C1-4027-9F32-45910CDF1D5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1400" spc="-1" strike="noStrike">
                <a:solidFill>
                  <a:srgbClr val="0000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400" spc="-1" strike="noStrike">
              <a:solidFill>
                <a:srgbClr val="666699"/>
              </a:solidFill>
              <a:latin typeface="Verdana"/>
            </a:endParaRPr>
          </a:p>
        </p:txBody>
      </p:sp>
      <p:pic>
        <p:nvPicPr>
          <p:cNvPr id="225" name="Picture 3" descr="3293795473_47524415"/>
          <p:cNvPicPr/>
          <p:nvPr/>
        </p:nvPicPr>
        <p:blipFill>
          <a:blip r:embed="rId1"/>
          <a:stretch/>
        </p:blipFill>
        <p:spPr>
          <a:xfrm>
            <a:off x="1676520" y="1752480"/>
            <a:ext cx="5486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3362C7D3-FE62-4247-A176-F9617DF7DEF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Role of Strategy in International Busines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13" name="Picture 4" descr=""/>
          <p:cNvPicPr/>
          <p:nvPr/>
        </p:nvPicPr>
        <p:blipFill>
          <a:blip r:embed="rId1"/>
          <a:stretch/>
        </p:blipFill>
        <p:spPr>
          <a:xfrm>
            <a:off x="457200" y="2057400"/>
            <a:ext cx="82296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186CBCF8-532F-4A3C-BBB4-7D06A5E3D81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dustry Structure</a:t>
            </a:r>
            <a:endParaRPr b="0" lang="en-US" sz="4800" spc="-1" strike="noStrike">
              <a:solidFill>
                <a:srgbClr val="6f6e4a"/>
              </a:solidFill>
              <a:latin typeface="Georgia"/>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1: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evaluate industry structure, firm strategy, and value creation</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D81C604B-119B-40EA-8864-E463C51E96C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dustry Structure</a:t>
            </a:r>
            <a:endParaRPr b="0" lang="en-US" sz="4800" spc="-1" strike="noStrike">
              <a:solidFill>
                <a:srgbClr val="6f6e4a"/>
              </a:solidFill>
              <a:latin typeface="Georgia"/>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dustry structure</a:t>
            </a:r>
            <a:r>
              <a:rPr b="0" lang="en-US" sz="2800" spc="-1" strike="noStrike">
                <a:solidFill>
                  <a:srgbClr val="666699"/>
                </a:solidFill>
                <a:latin typeface="Verdana"/>
              </a:rPr>
              <a:t> involves the relationships among</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uppliers of inpu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uyers of outpu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ubstitute produc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otential new entran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ivalry among competing firms</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7EAC85CD-D615-4386-B788-3DC36641EE9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dustry Change</a:t>
            </a:r>
            <a:endParaRPr b="0" lang="en-US" sz="4800" spc="-1" strike="noStrike">
              <a:solidFill>
                <a:srgbClr val="6f6e4a"/>
              </a:solidFill>
              <a:latin typeface="Georgia"/>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dustry structure changes because of</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petitor mov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vernment polici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hifting preferenc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echnological development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4F76D6D3-6F5A-4F42-938D-895B3735BAA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dustry Structure, </a:t>
            </a:r>
            <a:br>
              <a:rPr sz="4400"/>
            </a:br>
            <a:r>
              <a:rPr b="0" lang="en-US" sz="4400" spc="-1" strike="noStrike">
                <a:solidFill>
                  <a:srgbClr val="6f6e4a"/>
                </a:solidFill>
                <a:latin typeface="Georgia"/>
              </a:rPr>
              <a:t>Strategy, and Value</a:t>
            </a:r>
            <a:endParaRPr b="0" lang="en-US" sz="4400" spc="-1" strike="noStrike">
              <a:solidFill>
                <a:srgbClr val="6f6e4a"/>
              </a:solidFill>
              <a:latin typeface="Georgi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a:t>
            </a:r>
            <a:r>
              <a:rPr b="1" lang="en-US" sz="2800" spc="-1" strike="noStrike">
                <a:solidFill>
                  <a:srgbClr val="666699"/>
                </a:solidFill>
                <a:latin typeface="Verdana"/>
              </a:rPr>
              <a:t>industry organization (IO) paradigm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esumes that markets demonstrate</a:t>
            </a:r>
            <a:r>
              <a:rPr b="1" lang="en-US" sz="2400" spc="-1" strike="noStrike">
                <a:solidFill>
                  <a:srgbClr val="666699"/>
                </a:solidFill>
                <a:latin typeface="Verdana"/>
              </a:rPr>
              <a:t> perfect competition </a:t>
            </a:r>
            <a:r>
              <a:rPr b="0" lang="en-US" sz="2400" spc="-1" strike="noStrike">
                <a:solidFill>
                  <a:srgbClr val="666699"/>
                </a:solidFill>
                <a:latin typeface="Verdana"/>
              </a:rPr>
              <a:t>where no firm or industry consistently outperforms others</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power of innovative executive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right executives exploit market imperfections to outperform rivals</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trategy’s hallmark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Value </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trategy</a:t>
            </a:r>
            <a:endParaRPr b="0" lang="en-US" sz="2400" spc="-1" strike="noStrike">
              <a:solidFill>
                <a:srgbClr val="66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a:t>
            </a:r>
            <a:fld id="{BE0068AD-68B6-4362-B516-0E4D2D0FD39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reating Value</a:t>
            </a:r>
            <a:endParaRPr b="0" lang="en-US" sz="4800" spc="-1" strike="noStrike">
              <a:solidFill>
                <a:srgbClr val="6f6e4a"/>
              </a:solidFill>
              <a:latin typeface="Georgi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Value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measure of a firm’s capability of selling what it makes for more than the costs incurred to make it </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reate value using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 </a:t>
            </a:r>
            <a:r>
              <a:rPr b="1" lang="en-US" sz="2400" spc="-1" strike="noStrike">
                <a:solidFill>
                  <a:srgbClr val="666699"/>
                </a:solidFill>
                <a:latin typeface="Verdana"/>
              </a:rPr>
              <a:t>cost leadership</a:t>
            </a:r>
            <a:r>
              <a:rPr b="0" lang="en-US" sz="2400" spc="-1" strike="noStrike">
                <a:solidFill>
                  <a:srgbClr val="666699"/>
                </a:solidFill>
                <a:latin typeface="Verdana"/>
              </a:rPr>
              <a:t> strategy </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ke products for a lower cost than competitor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 </a:t>
            </a:r>
            <a:r>
              <a:rPr b="1" lang="en-US" sz="2400" spc="-1" strike="noStrike">
                <a:solidFill>
                  <a:srgbClr val="666699"/>
                </a:solidFill>
                <a:latin typeface="Verdana"/>
              </a:rPr>
              <a:t>differentiation strategy </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ke products for which consumers are willing to pay a premium price</a:t>
            </a:r>
            <a:endParaRPr b="0" lang="en-US" sz="24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4T17:56:37Z</dcterms:created>
  <dc:creator>Veronica</dc:creator>
  <dc:description/>
  <dc:language>en-US</dc:language>
  <cp:lastModifiedBy>Mike</cp:lastModifiedBy>
  <dcterms:modified xsi:type="dcterms:W3CDTF">2014-01-07T14:36:38Z</dcterms:modified>
  <cp:revision>15</cp:revision>
  <dc:subject/>
  <dc:title>Slide 1</dc:title>
</cp:coreProperties>
</file>