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C62-3918-42F3-AD2D-F879CD56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0F2-683F-481E-8673-53203A13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CEF7A-C2BF-4FC7-91E5-D38676AB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9D7DD-2AFF-42A7-89AB-0D396B9E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275D7-DDE7-4A59-8A83-6F108A59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22824-912C-4CB7-B979-4636FC62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2662F-D2C0-4499-A2FD-D71D6E78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4E9DC-29CC-462D-AF5C-8BB03CEA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4EFBD-F294-4280-9751-C5B1184A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280E8-C069-4222-A232-BA8D4229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716B3-C940-4B15-BB9D-76E22B8D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3AE4B-3C9D-4BB0-837D-B0F3CE3D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9CC-1B1F-4738-B48B-49A4BFB3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B6CD6-75D9-42BD-9076-6BA53804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719E9-60AE-424D-BE4A-AFEF382E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DEB86-04FD-4511-809F-87864ED8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660AB-CABE-4609-A197-8ED51CA9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EA7F1-7659-471E-AB9E-0E994E08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D29D0-DEEB-4406-8F3D-E235301D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D1DB9-7483-47DE-AC9B-913BE181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38E2D-749C-4990-B5CA-DF1F69F0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CC981-552C-428C-A96D-309489F1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36C15-76E1-404A-9313-705B35A0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AC0-60F2-4E3F-A256-772FDDF2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8A7F7-883A-4AA5-A701-5DE506ED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11D09-3E4A-43C6-8D26-D30F97EC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E76B1-1A72-4619-A251-8377B288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F8B30-AD05-48A2-A77B-A6DBDC42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8CE38-5CFE-48CF-AF85-1A54AE59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6692A-01BC-42C4-96C0-AEB036A3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0B079-D3EC-42DE-9E33-9BFC33F8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79E34-EC57-44BE-B0DF-CB3F31E7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77BC6-3F0A-416E-BFBF-F36F43B3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B449A-26D3-48E3-9BC2-63CA50DE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37E8-908C-4035-8EE4-B5DC1440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F9E35-B727-4A6E-8A78-39296D78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B8F1A-378A-4E62-AA3F-C0900416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6632E-0040-47FD-871E-7378DDB2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A3078-4002-4440-864F-BDB66E18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B6AD0-E78F-4A75-87C2-4D2C8E0C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A799A-8FB7-44A9-BC22-C4920BA7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F8D63-F6D7-410B-986C-9721F56A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EF413-A1A2-495F-8F1D-A55F556F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8AFF4-636A-4EE3-800C-055D3AA8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A9717-3936-45DB-9146-E13F8CFA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0F1C-234C-430A-978D-47DD2918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AA514-608C-4432-92A3-06CF800E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DF0D8-0B27-4AF3-B04E-6FB3093E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8F52A-B347-4310-9B50-15133AC4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50DEB-2467-4CAD-8E52-CF3EDFE0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0BE69-9476-4AC9-AF61-1893CD0D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47CA-897A-487A-BC2D-5C40F096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2633-96E7-43A4-A8E2-251F4A19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5EC4-46B0-4696-B5BE-2DD88988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B23A-7C2C-4655-88C5-DBA61937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1547-EB54-473E-84D3-F0DA1C62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019-CAC2-4F6F-A1F3-98E66E56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8316-8BA4-449D-9AA8-713E1B45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4BAA-6F9E-4FCE-A168-C144B5D6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C975-53D0-4E59-865A-88CEE91B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1138-39DA-4F2A-A727-2191FDEB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2E25-2E33-4648-9881-9A235548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3FF2D-E84F-4943-BD10-0F09CA52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3BF12-BE48-41AE-A631-4BDC4B40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2AB3C-31BA-4899-BC48-DB1E13F2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2D20D-619B-4D57-A4B6-2075FC5A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380F6-515B-4013-A42F-3374AB86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5E0-8944-4AEC-BFC5-05424F5F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5CC4F-3C27-407B-BAF0-971869F3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30A33-8DE7-4DC8-A472-C1020FF5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FE5C9-1D9A-4ED8-A3C6-5761B4CA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EC668-4A76-498A-A465-B94162CE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A8C60-916C-4D8A-BB3A-9B9C094A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883F8-E2A8-490F-949D-4076546D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44FE1-6496-452A-BC51-072C4713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53FD0-D054-424A-A3CE-500956AC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022C1-4617-4D41-ABAE-41E91654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D5916-77E9-4A8F-9AC1-AA429EB3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1E60-E23C-4175-8528-67A2AF72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FEE07-0FDE-435B-9A88-96115D3B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2CEE2-5EF0-4194-949A-C018D103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E3FC1-2D54-46BA-81DC-3B0DC51C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55EA5-3EF4-4971-8C12-D792F15C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0F633-7664-4814-A2B1-3E720E71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90026-51A5-4858-9191-55D3BC2E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52503-0BF4-4F0A-985D-47EB4E2C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6D2DC-2CC4-4651-B305-2331907A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9712F-8A59-4D60-9D06-95370CAF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E5BF2-FB0D-4CB6-B5DD-7791C8C7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EB8-E7E8-4AB0-967A-FB13E84D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04103-FAC3-4EFC-BCF2-FF4E0D3A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7032D-E642-49DE-87B4-54519C3E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5723B-7EC2-4AF4-BDA8-F82CFAA6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18982-3A84-4BB0-B0BD-428E5BD7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D8092-3BF5-4E86-A230-16CACCDA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D863F-7E36-4B3D-97E7-452F8D4D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0F33D-9AED-46ED-8C78-337F1421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9F9D9-EB2B-436F-A455-D82EAF78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C3037-9E03-496D-922B-280EEE9A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ED97F-9232-403F-9D86-2E1241C0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29EA-6EC1-457E-B3B3-81D5CB66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34631-C4DE-4104-A569-6A164EF0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89534-82A4-4543-8754-89D27E62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976F8-8A0E-4892-9ED1-58D20F5F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69EB4-A52C-4687-92C9-D6AA5FE9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4C3E2-B53B-4E9D-81C0-CA6C504D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487E1-42DC-4B74-A4E9-2AA186F3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15D75-3FA2-4E19-A48A-2C2A9915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C987F-D39B-4FC1-8D08-B3FBFB07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6AD9B-81EB-4F61-8D5E-8F0B0FBE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5EB6A-5BD2-4EE2-BE05-8E224DEF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4E8A-58F5-4D93-A029-686B9B6C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6CE7D-9F35-4E87-83B1-BB26356E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73991-1CB3-4C6F-8D0D-6609CF8E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F1EBF-D31A-4B48-9526-9C0752E9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94935-4AB3-49D7-9919-EF2C635E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CC2D6-42D2-4602-8D00-AD1E9647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02AD3-6983-47BC-BBCD-047FB2EC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75AE8-A35C-4938-8BE0-57B79C5E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67B52-EE32-48A1-AF13-D69A51E1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3BD59-038C-469E-828D-098340CC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E354A-9A4A-45C7-BA8C-0C3B9FD3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12E-3D1B-44D9-A176-E0E726EA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C0CD0-94FB-4933-9FC4-6A4A0996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44D69-3766-4E52-91EA-5C8C3BA2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086B1-B6EB-422A-9B6C-88DE036D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6D08B-D27C-43E7-8E3C-A05D8697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3836D-294B-4B75-BEB6-7C1EB77D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AC632-3753-471F-AB14-219B34BE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24310-234C-442A-AE32-FC7D314E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5C448-D948-4302-8DCF-782CB09D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943FF-1436-45F4-9B28-22E01FFF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5B3B9-9F5A-4CC3-8C6A-362CB48F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8BC4-60BF-473F-B54D-1252EEC9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2C75D-D0C6-4B74-9E27-B940CD04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73DCC-19E1-4AEF-AEED-113E7140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C1465-1D55-4A9A-BED4-6EAA1D46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04758-C85F-4913-863F-DC045100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11884-2681-4931-A3F7-AA1521E9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63BEF-2739-48F2-96FA-22443CA8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21D9B-1D46-4EFB-8424-4A73B88D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1A4EA-8064-40EE-90CF-8F7CB9CC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AE5B5-6F2F-48C2-99B1-6678F89F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F1339-3901-4C26-84F4-382B201E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41480"/>
            <a:ext cx="1155600" cy="1143000"/>
            <a:chOff x="165240" y="1041480"/>
            <a:chExt cx="1155600" cy="1143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41480"/>
              <a:ext cx="11556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5E822-CCAA-40C4-A875-3D5B5AC1C3E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Rectangle 12"/>
          <p:cNvGrpSpPr/>
          <p:nvPr/>
        </p:nvGrpSpPr>
        <p:grpSpPr>
          <a:xfrm>
            <a:off x="647640" y="965160"/>
            <a:ext cx="4800600" cy="4813200"/>
            <a:chOff x="647640" y="965160"/>
            <a:chExt cx="4800600" cy="4813200"/>
          </a:xfrm>
        </p:grpSpPr>
        <p:pic>
          <p:nvPicPr>
            <p:cNvPr id="389" name="Rectangle 12" descr=""/>
            <p:cNvPicPr/>
            <p:nvPr/>
          </p:nvPicPr>
          <p:blipFill>
            <a:blip r:embed="rId3"/>
            <a:stretch/>
          </p:blipFill>
          <p:spPr>
            <a:xfrm>
              <a:off x="647640" y="965160"/>
              <a:ext cx="4800600" cy="48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91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696BD-C272-4310-ABDD-C55AA84238B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EF55C-5475-43E6-B05A-77914BEC381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9C9BF-D7C6-4F4C-96FF-B942763105A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Oval 12"/>
          <p:cNvGrpSpPr/>
          <p:nvPr/>
        </p:nvGrpSpPr>
        <p:grpSpPr>
          <a:xfrm>
            <a:off x="914400" y="1397160"/>
            <a:ext cx="228600" cy="241200"/>
            <a:chOff x="914400" y="1397160"/>
            <a:chExt cx="228600" cy="241200"/>
          </a:xfrm>
        </p:grpSpPr>
        <p:pic>
          <p:nvPicPr>
            <p:cNvPr id="49" name="Oval 12" descr=""/>
            <p:cNvPicPr/>
            <p:nvPr/>
          </p:nvPicPr>
          <p:blipFill>
            <a:blip r:embed="rId3"/>
            <a:stretch/>
          </p:blipFill>
          <p:spPr>
            <a:xfrm>
              <a:off x="914400" y="1397160"/>
              <a:ext cx="2286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1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F2517-39F8-4932-AACF-A1737AC6546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15BA3-9E25-4CC8-A546-E5356F05ABA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6" name="Oval 15"/>
          <p:cNvGrpSpPr/>
          <p:nvPr/>
        </p:nvGrpSpPr>
        <p:grpSpPr>
          <a:xfrm>
            <a:off x="2158920" y="2806560"/>
            <a:ext cx="241560" cy="228600"/>
            <a:chOff x="2158920" y="2806560"/>
            <a:chExt cx="241560" cy="228600"/>
          </a:xfrm>
        </p:grpSpPr>
        <p:pic>
          <p:nvPicPr>
            <p:cNvPr id="137" name="Oval 15" descr=""/>
            <p:cNvPicPr/>
            <p:nvPr/>
          </p:nvPicPr>
          <p:blipFill>
            <a:blip r:embed="rId3"/>
            <a:stretch/>
          </p:blipFill>
          <p:spPr>
            <a:xfrm>
              <a:off x="2158920" y="2806560"/>
              <a:ext cx="24156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39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46F4D-02A0-4795-972C-0AD78ACD6E8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87C97E-C3C3-4BF3-A593-03A2DEE53C1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6BA84-7C84-4443-B3F4-0B01F7163B0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99835-D529-47B3-BD38-B016C594075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AFB86-550A-4D66-9D1C-F32B7022300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15492-7AF5-42F2-A72B-F7DDC2119B4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olitical Isla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17" name="Content Placeholder 3" descr=""/>
          <p:cNvPicPr/>
          <p:nvPr/>
        </p:nvPicPr>
        <p:blipFill>
          <a:blip r:embed="rId1"/>
          <a:srcRect l="0" t="7278" r="0" b="7278"/>
          <a:stretch/>
        </p:blipFill>
        <p:spPr>
          <a:xfrm>
            <a:off x="1434960" y="1851120"/>
            <a:ext cx="3660840" cy="40082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" descr=""/>
          <p:cNvPicPr/>
          <p:nvPr/>
        </p:nvPicPr>
        <p:blipFill>
          <a:blip r:embed="rId2"/>
          <a:stretch/>
        </p:blipFill>
        <p:spPr>
          <a:xfrm>
            <a:off x="5095800" y="1851120"/>
            <a:ext cx="37022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24000" y="274320"/>
            <a:ext cx="771048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ulturalist Approach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Islam religion and the state are fuse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storical experi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ligious ident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ristian influ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04920" y="360000"/>
            <a:ext cx="763416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roblems of Culturalist Approache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204920" y="1362240"/>
            <a:ext cx="7796160" cy="5292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54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e04"/>
                </a:solidFill>
                <a:latin typeface="Gill Sans MT"/>
              </a:rPr>
              <a:t>Reading history backwar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e04"/>
                </a:solidFill>
                <a:latin typeface="Gill Sans MT"/>
              </a:rPr>
              <a:t>Myth of Medi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e04"/>
                </a:solidFill>
                <a:latin typeface="Gill Sans MT"/>
              </a:rPr>
              <a:t>Succession confli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e04"/>
                </a:solidFill>
                <a:latin typeface="Gill Sans MT"/>
              </a:rPr>
              <a:t>Sunni ‘realism’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e04"/>
                </a:solidFill>
                <a:latin typeface="Gill Sans MT"/>
              </a:rPr>
              <a:t>Secular nature of Fiqh-Shari’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0e04"/>
                </a:solidFill>
                <a:latin typeface="Gill Sans MT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90520" y="274320"/>
            <a:ext cx="7499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Political Islam Is Modern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039680" y="1728360"/>
            <a:ext cx="789480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-4341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Quran provides no state theo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1200" indent="-43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1200" indent="-4341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blems of late nationalis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1200" indent="-43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1200" indent="-4341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failure of secular for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1200" indent="-4341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1200" indent="-4341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lamic responses to underdevelop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1200" indent="-4341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1200" indent="-4341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ase Study: Ira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101600" y="1774440"/>
            <a:ext cx="783288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01120" indent="-432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llaboration: Shi’ism under the Safav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01120" indent="-432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01120" indent="-432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formism: Shi’ism under the Qaja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01120" indent="-432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01120" indent="-432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adicalism: Shi’ism under the Pahlav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01120" indent="-432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01120" indent="-432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i’ism after the Revolu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01120" indent="-432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01120" indent="-432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9:20:28Z</dcterms:created>
  <dc:creator>Kamran Matin</dc:creator>
  <dc:description/>
  <dc:language>en-US</dc:language>
  <cp:lastModifiedBy>Kamran Matin</cp:lastModifiedBy>
  <dcterms:modified xsi:type="dcterms:W3CDTF">2019-10-24T13:18:39Z</dcterms:modified>
  <cp:revision>12</cp:revision>
  <dc:subject/>
  <dc:title>Political Islam</dc:title>
</cp:coreProperties>
</file>