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7BB-5587-450E-A954-736ED853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7EA-1176-45D5-B19D-B715DCCA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6ECA2-1AAE-435E-96AF-D96F384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7D562-3AA7-49B4-A531-D6436872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C102-5E13-4CDF-8C37-8F783C6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4871D-BE7D-4D49-AF22-96935B0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4BE8-D451-4DD0-9619-EF947B6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C817B-7CF4-4CDE-AF6F-475D446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2EB62-7DEB-4DD9-BD55-ABDD5BE8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56AD5-72A0-439E-985F-F1CEB3D7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908C-CC3A-4995-902A-75725D89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CDB58-B55A-4493-9BB6-C835CFB1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7C1-3078-4BEE-A260-DFAA78E7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BB03D-D876-4494-8984-91E0658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42C51-D609-4443-A20A-A0BF7B16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F6491-E29D-4D40-BB33-099FCB9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013C3-636D-444A-B388-4AE697F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8EC4C-3B1E-482B-8D84-A04F2FA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F1A4A-5AED-40E0-B3BC-2460A6E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CB8B0-34F9-48AB-BF87-13897C7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DF4D-65DC-4E55-99C6-760219E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ECE26-064B-4AAD-8A9A-1960D1BC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78F7A-4CB9-4770-B5FF-8859615E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D32-E1D9-4CD0-AB4F-E85CA381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08408-45A5-4B76-A389-D3E2D91E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F1060-2652-4A3A-BFC4-82577199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F032-4609-404C-8480-C48DAC6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F2C02-1C47-4FF2-B833-21626BAC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FFFFA-3573-4ABA-AF76-337B700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CDDE2-7699-4700-A077-2F3B273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7A56D-BA5D-45E3-9509-32829D82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D3835-CA3C-42F3-BBEA-4169E09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9992F-3D5B-446A-B90E-CD512D3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665C-AB84-44A4-A849-C6EEECB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1699-52D1-423D-B2DA-16C9FF30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3127-C43B-4DE6-9E1B-1A82804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6B06A-0E3D-42C8-AF96-270FB8C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D745-7B12-4F93-A7F1-87DA1E82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A37AC-178C-492C-B4D2-7D6C034E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169A6-C44C-49AF-AA57-395191A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6A91F-5CE8-4577-A3C3-E79040B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BB11E-9C22-4D66-B319-75E52BD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8F824-0FB9-4F45-973A-84F07D8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60A52-7157-4BD1-ADD0-D6423A0C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685E-2892-4849-ADA2-C6C5017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DC59-BD1B-4D9A-A359-CBA8BA6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95CFB-EF04-40D0-8ACC-A72AEF0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A992A-F7B8-4EB0-8652-8C4042C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2C9FB-E57A-49F1-8B3D-07FB1CE6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22989-6C25-45FE-9115-06550F6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CE104-0EE3-48C4-85FD-8E0C27F9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4522-D486-4AAD-9FE7-1C4F7C5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082-1D97-4A29-ABFD-60A62C1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AE73-C2C8-4C21-844E-4DE4123F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384-8D99-410A-B023-06CB832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E6E0-F71B-40AC-94FD-3470444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CCC-077D-47A4-B26F-38DB0E3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FA7-91ED-4690-A926-4F6E26D0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F848-F0BF-451A-AF68-E47CDF7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6F82-DFCD-416F-8D27-5975386C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1B6-12DA-4D1D-9AC3-F72ADED8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41F-076A-4E58-9ED8-37BF1B7E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2BC5-134C-48FA-8846-4579CAA9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DD1C-4E8D-45B3-AECC-13F25170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7D08-9F94-495A-88C6-B5D4FE2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A762-EA5C-458A-8452-4A587D5D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5887-C772-4486-AB59-0E331BC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893-A17E-4993-A183-A939B42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5E50-7008-4F1B-A7C0-33E2962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54F7-5141-4C9B-9628-BD4D73F7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F02F-E3E7-407C-93F5-FFF528C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4253-139A-44DD-838C-DBF133B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AD4E-3FEA-448F-95C2-3B8BD31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0AF1-030B-4A47-85BE-EA66E851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0E35-8E51-4E15-97E5-5FF40D8A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AD98-F915-48DD-B94C-3634519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02C8-55A8-46BB-99B5-1631B5BF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D51B-5C5D-4ADA-B32D-BBAD9C7C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9CD-A5B1-4755-8BDB-09EDABB6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814F-0E3A-43D3-B0D6-C5EF3088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56EA-9115-4B6F-A038-2BB1CC7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86FB-CB21-4572-B9F5-9BA59DFE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9F54-F896-41AC-81A3-14C9B56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571B-358B-42A3-AD16-28C4059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BC40-4E4F-4060-814B-10F7141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8D47-1D68-46C0-8134-FCCB36F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6FD5-1E2C-47D6-AB70-D7AE1BF7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05B8-DD1F-4DC9-B1BD-5622E7DA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9A3D-30DF-43CD-90D3-E514C279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AE5-950D-43AE-ABB3-6A72502B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E766-8E9F-4560-BE4E-B91899A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3A014-F11A-4DF1-B9EC-D1B8399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01A9-0B21-4C12-BC15-4F629CC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19E4-C473-4D7B-AC3B-9A39678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1BB6-ACEB-4F2C-9689-029A1AA4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E6EC-B3D1-4E99-93C8-0FD5B78F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FD5D-7BED-40E9-BCF1-19DCA19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10D6-1674-45EF-998A-E843787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4043-A094-42CD-92AE-18499C20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CA56-4B85-4D55-86BA-C9E6A80A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E8A-52FE-40C2-AC6A-650FEF0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B763-C1ED-4894-9E3E-02DA8A8E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E1A6-65F0-47B5-9AD2-C3FAA42E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34AEF-3977-46F9-B3DC-4E7D139A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85A0-F9A7-408D-8438-D540C41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FA33-4075-4CBA-B61B-F3691C5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39B6-8CD4-4C49-B931-328FADEC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40C5-E7BF-43C2-8110-6C57846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220E5-CE84-4C7F-979C-7091B7AF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8201-7615-4E27-B60B-1C8FBA4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6258-4213-42AC-B3BA-4F2972EA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CD8-9C73-4B09-89D1-A5E3FCB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919A-0101-4729-AE43-1742739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70DA-0AC6-4F30-8FF1-4CCEB0B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837D-3B1D-4B16-A945-ADE415EB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9E41-A971-45F1-809D-28345085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E0D9-26D3-495F-A54E-CF5629C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8575E-18F8-4730-95E8-6378A69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8EB85-D504-4481-B741-862B7A7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3A89-C5DC-4E2A-A860-63DA0092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D0CDE-A870-4F8A-B097-450222CD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6C1F1-BC86-4902-83F3-F62A0ACA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AFF-63F8-432A-BADC-526C31E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9DC1-3883-41FF-B982-2E34DA8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5153-F27C-485D-AE24-5D1C65C8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1B22-DFD1-4919-A76D-03DA8C8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252E-E28C-45B2-98F6-AD812699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9A72-DE07-477A-BF8F-5CEA9226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4FB5B-34BF-4E7E-8530-A1F17243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5AA1-6129-4320-A3A6-7582689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5756-29D8-42A0-A382-A7542A9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1ADF-EE40-4D49-B4DE-4167454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D1D84-E419-4994-861B-F07E13A5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F60-8905-4266-9F4A-6B008ED3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577F4-2F1B-4542-82F3-F0B2CD0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D5D6-DD6E-4DDD-9CBF-9A9ABF9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35874-1B6D-4081-BA26-A7924C9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41B2-C4EF-4AB5-908D-3638D94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A568F-97A7-4816-BD42-C5F71D54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BA5BE-0014-4C8B-9312-368485D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4001-14D0-4718-AB3E-158D0AC3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348E7-8FD9-4A43-8BA6-761DB59C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C8A4-C7DA-48C9-A088-68D19D4F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7053-61E3-4D79-835F-AECD0432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41480"/>
            <a:ext cx="1155600" cy="1155600"/>
            <a:chOff x="165240" y="1041480"/>
            <a:chExt cx="1155600" cy="11556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4148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8AA-606B-48E5-8DCF-1B50226D16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12"/>
          <p:cNvGrpSpPr/>
          <p:nvPr/>
        </p:nvGrpSpPr>
        <p:grpSpPr>
          <a:xfrm>
            <a:off x="647640" y="965160"/>
            <a:ext cx="4800600" cy="4813200"/>
            <a:chOff x="647640" y="965160"/>
            <a:chExt cx="4800600" cy="4813200"/>
          </a:xfrm>
        </p:grpSpPr>
        <p:pic>
          <p:nvPicPr>
            <p:cNvPr id="389" name="Rectangle 12" descr=""/>
            <p:cNvPicPr/>
            <p:nvPr/>
          </p:nvPicPr>
          <p:blipFill>
            <a:blip r:embed="rId2"/>
            <a:stretch/>
          </p:blipFill>
          <p:spPr>
            <a:xfrm>
              <a:off x="647640" y="965160"/>
              <a:ext cx="480060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E6D3-E4AA-47AF-A6F9-13FBA1B821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F8D-D785-4EC1-84C9-B399DE07DA4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E07-6DA6-401E-9976-2FC02850D3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val 12"/>
          <p:cNvGrpSpPr/>
          <p:nvPr/>
        </p:nvGrpSpPr>
        <p:grpSpPr>
          <a:xfrm>
            <a:off x="914400" y="1397160"/>
            <a:ext cx="228600" cy="241200"/>
            <a:chOff x="914400" y="1397160"/>
            <a:chExt cx="228600" cy="241200"/>
          </a:xfrm>
        </p:grpSpPr>
        <p:pic>
          <p:nvPicPr>
            <p:cNvPr id="49" name="Oval 12" descr=""/>
            <p:cNvPicPr/>
            <p:nvPr/>
          </p:nvPicPr>
          <p:blipFill>
            <a:blip r:embed="rId2"/>
            <a:stretch/>
          </p:blipFill>
          <p:spPr>
            <a:xfrm>
              <a:off x="914400" y="1397160"/>
              <a:ext cx="2286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CEA-7677-4EA4-B528-467475B842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313-88A5-44E9-B175-16247D08452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6" name="Oval 15"/>
          <p:cNvGrpSpPr/>
          <p:nvPr/>
        </p:nvGrpSpPr>
        <p:grpSpPr>
          <a:xfrm>
            <a:off x="2158920" y="2806560"/>
            <a:ext cx="241560" cy="228600"/>
            <a:chOff x="2158920" y="2806560"/>
            <a:chExt cx="241560" cy="228600"/>
          </a:xfrm>
        </p:grpSpPr>
        <p:pic>
          <p:nvPicPr>
            <p:cNvPr id="137" name="Oval 15" descr=""/>
            <p:cNvPicPr/>
            <p:nvPr/>
          </p:nvPicPr>
          <p:blipFill>
            <a:blip r:embed="rId2"/>
            <a:stretch/>
          </p:blipFill>
          <p:spPr>
            <a:xfrm>
              <a:off x="2158920" y="2806560"/>
              <a:ext cx="2415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9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70E-783B-4DF6-9FA4-055D38386B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E8A-1C6A-447C-9D50-E5F0466BD4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EB1-188B-41B7-82C0-9BF79AEC13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5445-4C92-4946-92BC-D1A34B39AA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F98-4C26-43B2-ACDA-7202146E97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2E06-3208-4727-8A5B-D2231D4B0F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Gender in the Middle East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82440" y="1849320"/>
            <a:ext cx="74768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982800" y="1849320"/>
            <a:ext cx="2149200" cy="2319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3132000" y="1849320"/>
            <a:ext cx="2708280" cy="2298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3"/>
          <a:stretch/>
        </p:blipFill>
        <p:spPr>
          <a:xfrm>
            <a:off x="5840280" y="1849320"/>
            <a:ext cx="2619360" cy="2298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"/>
          <p:cNvPicPr/>
          <p:nvPr/>
        </p:nvPicPr>
        <p:blipFill>
          <a:blip r:embed="rId4"/>
          <a:stretch/>
        </p:blipFill>
        <p:spPr>
          <a:xfrm>
            <a:off x="3044880" y="4168800"/>
            <a:ext cx="2795400" cy="2243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"/>
          <p:cNvPicPr/>
          <p:nvPr/>
        </p:nvPicPr>
        <p:blipFill>
          <a:blip r:embed="rId5"/>
          <a:stretch/>
        </p:blipFill>
        <p:spPr>
          <a:xfrm>
            <a:off x="5840280" y="4168800"/>
            <a:ext cx="2619360" cy="2243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"/>
          <p:cNvPicPr/>
          <p:nvPr/>
        </p:nvPicPr>
        <p:blipFill>
          <a:blip r:embed="rId6"/>
          <a:stretch/>
        </p:blipFill>
        <p:spPr>
          <a:xfrm>
            <a:off x="982800" y="4148280"/>
            <a:ext cx="2149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gender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is not biological sex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is shaped by material circumstan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is social meaning given to our BOD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is something we D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changes over time, space and cultur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eminism in Muslim Societ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ecular/Radical feminis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Universal struggle and goals are possibl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All religions including Islam legitimize certain gender-hierarchi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Islamic feminism is populist, defeatist, non-representativ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slamic Feminis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Universalism is neither possible nor desirabl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Islam’s core principles are just and egalitarian. It’s their interpretations that are male-centered but this can be reformed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ular feminism is a tool of western imperialism and/or hegemony of western feminists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ke Home Poi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der is socially constru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men’s struggle for equality in Muslim societies predates ‘Islamic feminism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lar and ‘Islamic’ feminists disagree over sources of gender inequality and the strategy for overcoming 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stake are issues of class, capital, race, and (geo)poli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12:56:02Z</dcterms:created>
  <dc:creator>Kamran Matin</dc:creator>
  <dc:description/>
  <dc:language>en-US</dc:language>
  <cp:lastModifiedBy>Kamran Matin</cp:lastModifiedBy>
  <dcterms:modified xsi:type="dcterms:W3CDTF">2019-03-01T10:37:44Z</dcterms:modified>
  <cp:revision>6</cp:revision>
  <dc:subject/>
  <dc:title>Gender in the Middle East </dc:title>
</cp:coreProperties>
</file>