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246-1FF0-4F13-8014-9EB494D7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B26-26BE-409C-B0E6-6349A6C2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27777-F880-4334-981D-0E78F377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84722-5C98-40A1-A1FB-6ED10E19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43217-5D71-460C-8547-58D4F1FC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1B713-F584-4389-A0ED-E83D227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0EF68-E5A6-4A0D-A330-D2365402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3896B-6E4D-4048-9D82-9DF2D51D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60EDF-AD5B-4314-AC3A-3BADF372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DC4FE-50FE-47C0-876E-034ADA8E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FE1D3-53B7-44A6-A244-E7065B1D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35CAD-C9C7-4EF5-A3E5-7A8E9357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109-6DA0-40C7-960F-3624991B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BDF50-A025-486C-B82F-2285A1DD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F6FEE-79F6-4D52-A49C-C1608D63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95CAB-4281-4411-BB13-73C71DE0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D831D-7FE6-414A-9395-11537CD4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E7453-4613-40D0-A834-164FF8BA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C1852-4475-48D1-AA8C-39858EDE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7530C-3C10-468C-BAE8-59CF3F21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C02A8-2738-4258-A1A8-284DA66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16803-321C-422F-A550-1672295E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F27AF-8F68-41C1-B449-F256A8E5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542-2D4B-4FFA-8D48-5861E044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F34D8-8EF3-4201-A9CD-C3705DA8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59E27-95CD-4D5C-9216-3DBBAF80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96867-3EB8-4545-9367-133DF00D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EF516-FE68-4DC5-8700-6C7F125A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52554-86D6-41AD-B695-38449981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1438D-8BFC-48D2-935C-629BFEAB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2A226-6781-420A-BD90-8D336D37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D403E-CC39-48D0-8956-465A01D1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33674-8D29-48C4-AE7A-060F315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E04C3-9DF6-4A88-B90B-6A12BBE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40DF-60AE-4DE3-824D-0B849E60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22A53-7248-4FFB-9235-EEAE56AB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5665E-5D3F-4ED0-A191-6D0CE98A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BA84B-86C7-44D0-994A-FFF1029C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4A0AE-29C3-46D0-A12B-1D41F978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A49ED-3DD9-4668-B4A8-57CF81A3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9DC8D-581C-47BD-B408-13C8A956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A4825-48BB-479B-A1BA-2E2C918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DC475-E011-4294-BC02-E185693D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9DEA2-A919-4504-BC05-93A31864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B101E-9752-4B2B-A146-9B8F469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48A1-99FF-4C6C-B927-9D67D979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EF9E9-FB6C-4B74-B1AB-F686BCE4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2EA51-BC9F-4EF5-BCC5-B9FAA8F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A57DA-B76E-4E02-83FB-C832E82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1F96C-F971-4EED-AA41-DFF17A0B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4DC02-4833-4943-8474-5A1A36E3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3114-681A-4361-8595-5846BF41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DFD6-BE99-4DB8-BF9E-384BA727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AED9-0237-40A5-988E-D313E1AC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DE7D-4816-48B8-9C82-BCF7D3A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4398-342C-46A7-9FB6-CEB117D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684-563D-4769-BA20-84D5D89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8DF4-BDBF-4D4B-8172-BDFBAAF1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7113-EDCB-43CB-A15D-447AA4A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4B63-3970-4D18-AC24-A91CE118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D5C0-D460-4B00-AE19-73ED8C7E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7AAD-99F8-425D-848D-EA0E14E8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B241-F508-453B-AAC7-563316DD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40F5-6998-40AC-AF56-CF8E95F8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3A245-558E-4578-945F-8D3C895A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7B29-CE51-4653-A98F-45708071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154F-5276-4D52-80D5-BFFC755D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271-1D27-4A6E-AB34-C88E8DD6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EABB-A852-4A23-81D2-FCA2E482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102B-EEF4-4B81-9A04-9A9292F1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CADA-05BB-46D7-9424-444FD79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CFC3-5091-4360-B2B7-A25D6E2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1191-B14A-4C7C-A83F-CE622928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726A-AF00-4CC1-8605-5614DFE4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F171-866E-4BC0-9649-CDD56F4F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DABF-4364-4501-9FB5-DDE25BBC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999D-91F8-4AE8-8913-4BA7579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8AE07-660B-42D9-8C90-F40C649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6AB-C2A6-4971-B89D-60B16C39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C6C1-8F2E-42AF-8F4F-F238AE6E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22FB-5C33-4E11-BB79-980ED560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81BBD-9344-411C-BCCB-1574957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7ECC2-9079-4A6A-A857-1727693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CB31-EAD5-4B10-8D60-25CA7BA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4B39-9EA2-4205-A7BA-FD8660DC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8F81D-6D9A-4FDF-80FE-055D526A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36FB-C218-4E11-AF5D-637EDFF6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DF0F-2665-4303-84D5-58DA3AFD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DB63-9BBC-4091-A255-93BD224B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D18-18E2-4DB3-A29D-D0B67808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C9DED-2B36-4C06-9128-68D825F4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2013A-52D5-4045-A571-C792EFAF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1A938-57D9-44D0-AAC5-4C046316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E865-05B7-489B-BF1E-739AE0A8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7514-7337-466F-8204-13EF2C03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8E19-9C4A-41B2-BCFF-9ED7B415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265A-6299-45BE-9551-C57768D8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23B4A-89AF-460C-B322-52E7F9B1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0AC6-4381-429C-8482-B0FDE9EE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E8BF1-5704-4C2F-BC73-C2478A24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E1F-1E81-444E-9760-C70EA0FB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D1791-C48C-42C7-B787-0F3438E7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E1D37-0F5F-43D3-B97E-E2262EC7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D7CB8-E42C-460F-A276-640E1280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39912-8A26-4A4E-87A1-46544B92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BCD1F-44B8-4012-A8D0-A885708C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7DEA4-0725-4F54-B64E-63C0FC67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4827C-4B28-4E9B-9D83-19216A4A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1025E-6408-489C-8FD9-9598530F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5A15E-3D25-4C63-9B96-13C28663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466AC-0A37-42BF-9E3F-4BCDBAFA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DED-54FE-43F2-9B9E-E7A114B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7E7B3-4840-4E0A-A376-5AE28FD4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BA3BA-49E6-4C5F-A23B-46BD76F0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866B4-0C29-496D-A729-F981A5F6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E327D-00E2-470E-B84C-DA824074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688EC-C444-40BB-9120-1D39D88E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D46A5-933F-43FC-AAEB-F737BC45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C30F-6188-4BF9-A866-93E8AA3F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EA6FC-68B3-456C-8418-98291AA9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288D-AC0D-4B0C-A87B-A01E6662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135E-EA7A-4620-BC8A-B5775DA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B27-204F-4F92-BCC8-CBC0412B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E6C25-9612-4CE0-98DA-50367961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813B8-6D23-4E94-8617-9F120C00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097E1-BE03-427A-9C8D-F015809A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16D6D-303C-4D18-AD70-4AA3DE69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D11C-8C29-47F9-8FC2-0FFA2CC8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55D0-7B53-422A-B7EA-6F2FECDA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D49F1-E8FE-45B9-A4CE-1B92C7C9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73D80-FD07-4ED5-A684-618C5466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5518-EF8E-4CEE-84A6-F5FCBC68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D0F33-D986-4C18-892F-CE18798F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7C8-1C18-4DD8-9BEF-142C2B2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EFA4F-3D07-42B6-B44E-386264E9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4E1AF-D67A-45F2-A114-3419D0A1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94F24-F585-4C7D-9110-DF123B4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19070-320A-4099-936C-48AFCDC1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D0F74-B7F9-4AC5-8A3E-31B7F4DD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FCBA5-8EE3-450D-9E4E-A2B0DA49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8DE58-251A-47D4-9B45-930F2501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D4139-3C0B-4EAB-8B8C-67029B24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90362-F6AE-4C81-8EBF-3E901F34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64793-6AB1-4352-A763-9FB86B51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41480"/>
            <a:ext cx="1155600" cy="1143000"/>
            <a:chOff x="165240" y="1041480"/>
            <a:chExt cx="1155600" cy="1143000"/>
          </a:xfrm>
        </p:grpSpPr>
        <p:pic>
          <p:nvPicPr>
            <p:cNvPr id="3" name="Donut 10" descr=""/>
            <p:cNvPicPr/>
            <p:nvPr/>
          </p:nvPicPr>
          <p:blipFill>
            <a:blip r:embed="rId2"/>
            <a:stretch/>
          </p:blipFill>
          <p:spPr>
            <a:xfrm>
              <a:off x="165240" y="104148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A24E-B95D-45F4-ACB2-E056B0D6983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Rectangle 12"/>
          <p:cNvGrpSpPr/>
          <p:nvPr/>
        </p:nvGrpSpPr>
        <p:grpSpPr>
          <a:xfrm>
            <a:off x="647640" y="965160"/>
            <a:ext cx="4800600" cy="4813200"/>
            <a:chOff x="647640" y="965160"/>
            <a:chExt cx="4800600" cy="4813200"/>
          </a:xfrm>
        </p:grpSpPr>
        <p:pic>
          <p:nvPicPr>
            <p:cNvPr id="389" name="Rectangle 12" descr=""/>
            <p:cNvPicPr/>
            <p:nvPr/>
          </p:nvPicPr>
          <p:blipFill>
            <a:blip r:embed="rId2"/>
            <a:stretch/>
          </p:blipFill>
          <p:spPr>
            <a:xfrm>
              <a:off x="647640" y="965160"/>
              <a:ext cx="4800600" cy="48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342-D47C-4A92-BDF8-D7EF8FA289F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3AFE-9BCB-491A-8645-08EB6C8AC1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2A01-0F75-473E-A4B8-30B64CBA78F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Oval 12"/>
          <p:cNvGrpSpPr/>
          <p:nvPr/>
        </p:nvGrpSpPr>
        <p:grpSpPr>
          <a:xfrm>
            <a:off x="914400" y="1397160"/>
            <a:ext cx="228600" cy="241200"/>
            <a:chOff x="914400" y="1397160"/>
            <a:chExt cx="228600" cy="241200"/>
          </a:xfrm>
        </p:grpSpPr>
        <p:pic>
          <p:nvPicPr>
            <p:cNvPr id="49" name="Oval 12" descr=""/>
            <p:cNvPicPr/>
            <p:nvPr/>
          </p:nvPicPr>
          <p:blipFill>
            <a:blip r:embed="rId2"/>
            <a:stretch/>
          </p:blipFill>
          <p:spPr>
            <a:xfrm>
              <a:off x="914400" y="1397160"/>
              <a:ext cx="2286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442B-C46B-4A12-8ECE-4E747C0D59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3450-55AC-476B-BC85-08190E0B1F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6" name="Oval 15"/>
          <p:cNvGrpSpPr/>
          <p:nvPr/>
        </p:nvGrpSpPr>
        <p:grpSpPr>
          <a:xfrm>
            <a:off x="2158920" y="2806560"/>
            <a:ext cx="241560" cy="228600"/>
            <a:chOff x="2158920" y="2806560"/>
            <a:chExt cx="241560" cy="228600"/>
          </a:xfrm>
        </p:grpSpPr>
        <p:pic>
          <p:nvPicPr>
            <p:cNvPr id="137" name="Oval 15" descr=""/>
            <p:cNvPicPr/>
            <p:nvPr/>
          </p:nvPicPr>
          <p:blipFill>
            <a:blip r:embed="rId2"/>
            <a:stretch/>
          </p:blipFill>
          <p:spPr>
            <a:xfrm>
              <a:off x="2158920" y="2806560"/>
              <a:ext cx="2415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9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FE5A-DF38-413A-973F-C73D3CA53F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2F6A-488B-4A1B-B463-AF72BDBA1B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CE60-955E-42AA-ABFB-E6BCE140838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87AB-5301-4AB0-924C-DD39AA8E004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933B-9598-49AF-A7C7-14C5C07E6F3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AB7-BC7F-4F08-B443-BD6EEC23AB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36520" y="27432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Week 10: The Israeli-Palestinian Conflict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1274760" y="1587600"/>
            <a:ext cx="3530520" cy="23605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4889520" y="1587600"/>
            <a:ext cx="3916440" cy="23889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3"/>
          <a:stretch/>
        </p:blipFill>
        <p:spPr>
          <a:xfrm>
            <a:off x="4889520" y="4075200"/>
            <a:ext cx="3916440" cy="24462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" descr=""/>
          <p:cNvPicPr/>
          <p:nvPr/>
        </p:nvPicPr>
        <p:blipFill>
          <a:blip r:embed="rId4"/>
          <a:stretch/>
        </p:blipFill>
        <p:spPr>
          <a:xfrm>
            <a:off x="1274760" y="4075200"/>
            <a:ext cx="35305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1720" y="158760"/>
            <a:ext cx="740700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What is Israel?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Between colonialism and nationalism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111320" y="1404720"/>
            <a:ext cx="7913520" cy="501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‘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A people without land returning to a land without people’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Authentic Jewish nationalism and absence of a supporting colonial power means Israel is not a colonial stat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The ‘duality thesis’: pre-state Israel-Palestine consisted of ‘two discreet societies’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Zionism as Colonialism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possession and displac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lonial Align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ourse of progress and moderniz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ist idea, colonial pract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Israeli Expans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27" name="Content Placeholder 3" descr=""/>
          <p:cNvPicPr/>
          <p:nvPr/>
        </p:nvPicPr>
        <p:blipFill>
          <a:blip r:embed="rId1"/>
          <a:srcRect l="0" t="2927" r="0" b="2927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Israeli-Palestinian Conflic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territory, two peoples, many a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ational context of emerge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ational context of continu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sted interests of different a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1:15:36Z</dcterms:created>
  <dc:creator>Kamran Matin</dc:creator>
  <dc:description/>
  <dc:language>en-US</dc:language>
  <cp:lastModifiedBy>Kamran Matin</cp:lastModifiedBy>
  <dcterms:modified xsi:type="dcterms:W3CDTF">2019-03-24T08:55:01Z</dcterms:modified>
  <cp:revision>17</cp:revision>
  <dc:subject/>
  <dc:title>            What is Israel? Between colonialism and nationalism </dc:title>
</cp:coreProperties>
</file>